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280-A5FE-4199-8680-39E9B425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45F-AB1E-4D9C-B1A7-90B8B5F7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83501-3B8D-4D32-9B87-48E448C4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2A44C-BF6F-42CE-9158-0D60F5B7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AFE43-0A09-4C24-94F7-3853B79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FE1DE-5DF2-468B-843F-6B2DCC1F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5E418-4A08-4C9E-978C-83DB93B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8E50C-1972-4B03-A6EB-8B4B5B9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52D27-591F-4683-B691-8B32EEA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7F92D-50D5-4E0A-8560-D1845ED4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8024E-AB0E-4B51-8499-CBFE4596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7D2-F777-4777-B015-A8A70CB3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BE7-C1CB-4050-A84B-2347EC70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8AD7-8C8E-4C3A-B8AF-120C0826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2BE3-E5DD-4F49-89A1-DE1FECA4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941B-3C5E-4961-A4ED-4116DBF6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83AF-0917-4297-9BF9-A91323E6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D30F-62BE-47EB-BB29-683C2DAA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DF3D-76E3-4000-88AA-FF1EEDB7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F0B0-8EA2-4F69-817E-81973F2F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67E-FBB3-4BC3-A8D5-A83CD8E3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AAE4-BED6-4E6C-BCFF-BBECD07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3EBC-916D-45C8-A955-0FB6E23F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E70-5304-40A5-AEB1-25F18C5C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0248-1811-4A07-A551-8DC6656B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0039-68C3-48E0-A0B3-EA35F7BD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4B3A-EBCE-4C79-8E61-DD49CA07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1C8C-B234-47F8-95E8-5D46680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D6B0-5B46-4E32-8329-A031DB4C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ECF4-A6A3-45F9-945E-55729B2D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4624-B584-42CC-AE46-646E4DD3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063-4646-4223-9EE6-AF6F8BCC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6BDB-25EE-497C-A488-B778048A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D445-5119-4786-BE7A-5633B880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DB67-5BEA-4B6D-8E79-8B92D90D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559F-60FA-411C-9128-BAE3AF6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B9ED-711F-484E-92F7-D97CC840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4236-5105-45BC-A746-1821B577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FA8C-3FAF-449F-84DB-C6CD13E2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FA94-5AF8-4945-A4E7-AB32EC7F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B802-8D8D-468C-BD24-9EA1A9F4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70F5F-0941-4FAC-9456-4D689E34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AD9-139D-4105-891C-10B6FF92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A397-E986-47E6-A74A-D6D1588D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8AC2-8281-4394-8DA9-9658B71E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EDA46-95DA-4B5B-AA43-8965C9F5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5C84-1A6B-4A86-99ED-7DC167EF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7DCAE-4629-4829-ABE3-FE5D8126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02340-E91D-4948-9DE7-8D65DFE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1BBB8-57E0-499E-A861-BB7CA8C4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4784-8BD8-45C0-A01B-81FAC115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A4D2-32EB-49D8-8CB6-5A5F8CD1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D7DC-D482-4823-9AC1-C50EBEC8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547-BFB8-40A0-AA66-066AAE95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D734-B3E6-42CB-92F9-1EED5772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B80B-B492-4522-B305-86CFF106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E58E9-DDD0-43DD-B6B5-1535AE5E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5AD06-8B0E-43D2-A261-FFA2EFEF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25A6-37D0-4286-B3DB-C671A1B1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DD4D-007C-48C2-886E-A4D9A417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7B980-DAE8-419A-A514-8DA4A21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7B7BA-F2A5-4950-86DE-9A89E6A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8AC4-A160-4C56-ACBF-7CD8E83B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12E89-3F3E-41AC-8CA7-4250C3BA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818-039C-419F-BB6D-EE64A19A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08266-CF2B-4E82-BFD3-7B6E3E2F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F1D8F-EBCD-4770-A5CB-A9FEC447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7995-6CFE-4ED4-A28E-8BF2A76E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638F8-5171-4A58-9374-69767EE9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ADC1B-F5C2-4CB9-A6B2-7CF9F7F0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3B1D6-5A90-4CD5-848A-3B431C2C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018F-DC0C-4E7F-B3E0-8B242F1C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D619-F0DF-4A72-B751-BA52E929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B6C5A-4753-4A95-A4EB-D3D34DC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23710-7163-4D24-B02E-E8EC8166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310-7962-4B2B-8F05-23226A5C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750EF-FDBE-4CD2-A2BC-BB6A137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D2A62-E629-4B9B-8D9F-849D95FD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02287-ADA2-4146-BD96-03870A63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72F61-13A4-44FE-AE4F-9F513DEE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F14B0-347A-4BC4-A890-89B1F02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16746-A726-45DA-952A-416E07C0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37FB7-C7BA-4E95-8DBF-32EA75F9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9EE4-5F0C-43E0-9E97-F48EB153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53D44-6BCF-4387-8CDF-EB5F2A2F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39FE7-F823-491D-9DC7-CCA34D67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4D9-D885-42F7-BBBF-79F50D3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784AF-008C-4BC4-B3D9-E220844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6FE7-AD4A-48E4-96E9-2AFA468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F537-F8CB-49A4-B13B-0FCEE760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43760-377B-48B6-B3E5-6F2760AD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B0BF-D145-4511-B459-D545F213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DBC9-48BC-4103-8E2D-D85B97E8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97367-7277-4113-9D9E-5048411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60677-31F5-411F-982C-4C7B991B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281A4-7E4B-4BCB-8717-0E6DFC3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B439-4EC6-4501-9509-DBEBA8F4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927-B7E0-4FB0-82BF-20BE44C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ECC0F-2FCC-4841-AF5F-D0A98F92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AA4AE-3FD5-44DC-8AC3-B18A0D59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E80C1-D6FF-4B82-A198-15001B3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75ED7-E375-4113-8455-8641DD6C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001AB-EA94-4D40-B90C-12D23D1A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9B198-4767-4D58-AF43-1AE4EA95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43A21-C4EB-4FBD-8C57-07D24D69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0C237-B5AC-45A1-9369-129E5793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8E70E-141F-4BC4-B4B4-599FE2D1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F0920-FDC2-4EB2-A20B-68497151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D81B-A606-4F43-844E-E66F4BA145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403-BEBE-478F-8646-C05266B7C6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39B2-632D-4BFD-ACC6-D555A9FBC7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93B4-858A-42CE-B33A-EDB8A1D3D1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C334-7C45-4000-8733-803C308FE5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12F3-B2DB-40E5-B0D4-121CB34FB0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7E56-515B-4439-B00D-8D4077DACE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FBFC-FC25-44DA-907A-3D98B2B1DE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4325-F157-4FFF-B293-39DA7BFEA9A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03360" y="79200"/>
            <a:ext cx="7791480" cy="2462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13372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Подготовила: Т.И. Ковале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педагог-психолог МБОУ гимназия №7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43329"/>
                </a:solidFill>
                <a:latin typeface="Arial"/>
              </a:rPr>
              <a:t>г. Крымск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4" descr="fft99_mf1343149"/>
          <p:cNvPicPr/>
          <p:nvPr/>
        </p:nvPicPr>
        <p:blipFill>
          <a:blip r:embed="rId2"/>
          <a:stretch/>
        </p:blipFill>
        <p:spPr>
          <a:xfrm>
            <a:off x="1676520" y="2286000"/>
            <a:ext cx="518148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"/>
          <p:cNvSpPr/>
          <p:nvPr/>
        </p:nvSpPr>
        <p:spPr>
          <a:xfrm flipV="1" rot="10800000">
            <a:off x="533160" y="-34200"/>
            <a:ext cx="8381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Коррекционное занятие включает в себя  основные эта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нсорная интеграция, ритмическая деятельность, обр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вспомогательные этапы работа с тонусом, развитие глаз-рука, пространственное восприят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228600" y="218520"/>
            <a:ext cx="8686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нсорная интег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ирование у ребенка представление о се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азвитие произво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Развитие пространственных представл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Формирование и коррекция восприятия схемы 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762120" y="316800"/>
            <a:ext cx="7772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  <a:ea typeface="Times New Roman"/>
              </a:rPr>
              <a:t>Основные принцип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ора на зону ближайшего развит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мотивации ребенка, уважение его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особенностей моторики, сенсор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чет  способа мышления, коммуникативных спосо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685800" y="389880"/>
            <a:ext cx="7772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  <a:ea typeface="Times New Roman"/>
              </a:rPr>
              <a:t>Занятие строится по плану, который включает в себ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точнение общей мотор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Установление конта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пределение актуального состояния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дбор дидактических заданий на основе интереса реб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Picture 4" descr="https://psypedprofi.ru/wp-content/uploads/2021/01/2021-01-04_12-06-37.png"/>
          <p:cNvPicPr/>
          <p:nvPr/>
        </p:nvPicPr>
        <p:blipFill>
          <a:blip r:embed="rId1"/>
          <a:stretch/>
        </p:blipFill>
        <p:spPr>
          <a:xfrm>
            <a:off x="4648320" y="3352680"/>
            <a:ext cx="4038480" cy="2837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3"/>
          <p:cNvSpPr/>
          <p:nvPr/>
        </p:nvSpPr>
        <p:spPr>
          <a:xfrm>
            <a:off x="1066680" y="4572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сихологическая работа должна проходить в тесном сотрудничестве с 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род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2" descr="https://spec-school.crm.eduru.ru/media/2020/01/28/1250355437/hello_html_1a4328b.png"/>
          <p:cNvPicPr/>
          <p:nvPr/>
        </p:nvPicPr>
        <p:blipFill>
          <a:blip r:embed="rId1"/>
          <a:stretch/>
        </p:blipFill>
        <p:spPr>
          <a:xfrm>
            <a:off x="609480" y="1951200"/>
            <a:ext cx="830592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-360" y="914040"/>
            <a:ext cx="8991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Arial"/>
                <a:ea typeface="Arial"/>
              </a:rPr>
              <a:t>СПАСИБО                    ЗА ВНИМАНИЕ !!!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Главная сложность -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аключается в отсутствии собственной мотивации к развитию и обучению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возможность установления «общего языка» между специалистом и ребенк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5" descr="https://avatars.mds.yandex.net/i?id=fdb1279dd8ac7f4bd5e24c03c38c0d91c9f1c090-5584275-images-thumbs&amp;n=13"/>
          <p:cNvPicPr/>
          <p:nvPr/>
        </p:nvPicPr>
        <p:blipFill>
          <a:blip r:embed="rId1"/>
          <a:stretch/>
        </p:blipFill>
        <p:spPr>
          <a:xfrm>
            <a:off x="3733920" y="2416320"/>
            <a:ext cx="50482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0" y="238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Триада РАС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ереотип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фические нарушения реч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ушение коммуникаци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Picture 9" descr="C:\Users\admin\Desktop\триада.bmp"/>
          <p:cNvPicPr/>
          <p:nvPr/>
        </p:nvPicPr>
        <p:blipFill>
          <a:blip r:embed="rId1"/>
          <a:stretch/>
        </p:blipFill>
        <p:spPr>
          <a:xfrm>
            <a:off x="2057400" y="2514600"/>
            <a:ext cx="4915080" cy="3774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762120" y="3808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Используем исходную мотивацию как инструмент для его обучения. Начинаем с того что ему сейчас интересно, а потом постепенно расширяем взаимодей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5" descr="https://micolock.ru/wp-content/uploads/9/8/d/98d823ae13c39776541c50a9ee9a747c.jpeg"/>
          <p:cNvPicPr/>
          <p:nvPr/>
        </p:nvPicPr>
        <p:blipFill>
          <a:blip r:embed="rId1"/>
          <a:stretch/>
        </p:blipFill>
        <p:spPr>
          <a:xfrm>
            <a:off x="3962520" y="3200400"/>
            <a:ext cx="4647960" cy="3098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4-1"/>
          <p:cNvPicPr/>
          <p:nvPr/>
        </p:nvPicPr>
        <p:blipFill>
          <a:blip r:embed="rId1"/>
          <a:stretch/>
        </p:blipFill>
        <p:spPr>
          <a:xfrm>
            <a:off x="1752480" y="2362320"/>
            <a:ext cx="5334120" cy="32004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4"/>
          <p:cNvSpPr/>
          <p:nvPr/>
        </p:nvSpPr>
        <p:spPr>
          <a:xfrm>
            <a:off x="8380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Коррекционная работа основывается на компенсации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дифицитарных сфер развития с опорой на сохранные сф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4"/>
          <p:cNvSpPr/>
          <p:nvPr/>
        </p:nvSpPr>
        <p:spPr>
          <a:xfrm>
            <a:off x="685800" y="152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Признаки тактильной дисфункций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синсетивность и гипосенситивнос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Picture 5" descr="https://fb.ru/misc/i/gallery/53302/3007019.jpg"/>
          <p:cNvPicPr/>
          <p:nvPr/>
        </p:nvPicPr>
        <p:blipFill>
          <a:blip r:embed="rId1"/>
          <a:stretch/>
        </p:blipFill>
        <p:spPr>
          <a:xfrm>
            <a:off x="167652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5" descr="https://fb.ru/misc/i/gallery/53302/3007019.jpg"/>
          <p:cNvPicPr/>
          <p:nvPr/>
        </p:nvPicPr>
        <p:blipFill>
          <a:blip r:embed="rId1"/>
          <a:stretch/>
        </p:blipFill>
        <p:spPr>
          <a:xfrm>
            <a:off x="4038480" y="28195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"/>
          <p:cNvSpPr/>
          <p:nvPr/>
        </p:nvSpPr>
        <p:spPr>
          <a:xfrm>
            <a:off x="609480" y="60588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нарушении работы </a:t>
            </a: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Times New Roman"/>
              </a:rPr>
              <a:t>вистибуляр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при гиперчувствительности ребенок будет избегать площадок, горок, лестниц и т.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гипочувствительности ребенок стремится докомпенсировать, то есть не сидеть на месте, прыгать, экстремально спускатьс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https://myslide.ru/documents_7/e7796fe0f5648564fc1bc4702e834c4b/img8.jpg"/>
          <p:cNvPicPr/>
          <p:nvPr/>
        </p:nvPicPr>
        <p:blipFill>
          <a:blip r:embed="rId1"/>
          <a:stretch/>
        </p:blipFill>
        <p:spPr>
          <a:xfrm>
            <a:off x="-127080" y="0"/>
            <a:ext cx="927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5" descr="https://mediaex.ru/wp-content/uploads/f/2/5/f25536810cbf8cdcaaa47e36186bac79.jpeg"/>
          <p:cNvPicPr/>
          <p:nvPr/>
        </p:nvPicPr>
        <p:blipFill>
          <a:blip r:embed="rId1"/>
          <a:stretch/>
        </p:blipFill>
        <p:spPr>
          <a:xfrm>
            <a:off x="685800" y="380880"/>
            <a:ext cx="8077320" cy="6327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cp:lastPrinted>2016-05-30T08:54:26Z</cp:lastPrinted>
  <dcterms:modified xsi:type="dcterms:W3CDTF">2023-05-29T09:04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