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43B6-6DE6-465F-81A8-E5F3B4E43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746B-EDB6-4BF8-A6D0-EFBDD468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56DC-CFA0-471D-9B61-68D27ABE6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A4DD-2A01-45BC-A410-D731B8CAF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30CE-0928-457D-8017-6D0EC8A1C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D64E-34E8-4680-BE98-3E4C79AC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87CB-18BE-4CB3-9198-DA4325CE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9AE6-CAE5-47D2-9CDB-2836322A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CA07-1974-4990-A234-6F6175B3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9145-8296-478E-B795-AE61789E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0871-0D7E-4B6A-95C3-711FA53E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E67B-E482-4738-B55C-32C7EA64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EEBB-D0C2-4B6A-9D9A-FF2208D8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0F96-1F24-4C62-A419-59DB9E2F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2FDB-83E9-4C55-B26D-3D01DDF2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4B98-E7DE-4628-B8F4-5521AD8F1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B456-1C3D-4784-89CF-9934E839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462F-8B1E-4965-85A7-EDF8E02F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C35B-23C9-4111-98FD-B0AB7468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7731-037E-4C3E-AC00-C740EDB6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601E-2E68-4B49-8488-655D9048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2648-56F0-4867-9F35-9F159FD2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272C-28DF-4166-9BB9-28FAB502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65CE-E4DC-4F6D-A8F8-92DE6BC1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4897-B3F0-47AC-8DB9-6733B11D2A5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6FC1-1653-4CA5-9E59-C46283071CD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0000" y="4723920"/>
            <a:ext cx="59770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осударственное казенное общеобразовательное учреждение Краснодарского края специальная (коррекционная) школа-интернат г.Краснодар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26640" y="1367640"/>
            <a:ext cx="728784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одержание работы педагога-психолога в деятельности школьного психолого-педагогического консилиум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98560" y="397080"/>
            <a:ext cx="7929000" cy="188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Перечень документов для представления обучающегося на ПМПК 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4000" y="2361960"/>
            <a:ext cx="828036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.Копия паспорта или свидетельства о рождении ребенка (предоставляются с предъявлением оригинала или заверенной в установленном порядке копии)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.Родителем (законным представителем) предоставляется документ, удостоверяющий его личность, а также документы, подтверждающие полномочия по представлению интересов ребенка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.Направление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бразовательной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рганизации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4. Подробная выписка из истории развития ребенка с заключениями врачей из медицинской организации по месту жительства (регистрации) по форме; заключения врачей-специалистов, наблюдающих ребенка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5.Психолого-педагогическая характеристика на обучающегося, выданная образовательной организацией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6. Выписка из электронного журнала текущих оценок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7.Письменные работы обучающегося по русскому (родному) языку, математике за учебный год (копии)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8.Результаты предыдущих обследований ребенка (заключения)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9. Справка МСЭ  (копия)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исьмо Минпросвещения России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от 08.02.2019года №ТС-421/07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981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письме Минпросвещения России обращается внимание на необходимость повышения эффективности работы служб психолого-педагогического сопровождения обучающихся с нарушением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я и письма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«Учение без мучения» 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Г.М.Зегебар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Picture 2" descr="D:\Изображение 008.jpg"/>
          <p:cNvPicPr/>
          <p:nvPr/>
        </p:nvPicPr>
        <p:blipFill>
          <a:blip r:embed="rId1"/>
          <a:stretch/>
        </p:blipFill>
        <p:spPr>
          <a:xfrm>
            <a:off x="1370160" y="2362320"/>
            <a:ext cx="2706480" cy="3724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2"/>
          <a:stretch/>
        </p:blipFill>
        <p:spPr>
          <a:xfrm>
            <a:off x="5348160" y="2362320"/>
            <a:ext cx="25956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D:\image.jpg"/>
          <p:cNvPicPr/>
          <p:nvPr/>
        </p:nvPicPr>
        <p:blipFill>
          <a:blip r:embed="rId1"/>
          <a:stretch/>
        </p:blipFill>
        <p:spPr>
          <a:xfrm>
            <a:off x="179280" y="115920"/>
            <a:ext cx="8820360" cy="66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9160" y="553680"/>
            <a:ext cx="7769880" cy="106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ЕЙС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прос со стороны родителей (законных представителей)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«Девочка 10 лет, обучается в 4 классе общеобразовательной организации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вод обращения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читель ежедневно «Жалуется» на невнимательность, неусидчивость, что часто забывает школьные принадлежности, не выполняет домашние задания, отвлекает одноклассников во время уроков, падает успеваемость по математике и русскому языку, активно отстаивает свое мнение в споре как с педагогом, так и с одноклассниками, импульсивна, демонстративн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ЕЙС 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прос со стороны учителя начальных классов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«Мальчик 8 лет, обучается во 2 классе в общеобразовательной организации по АООП для обучающихся с ЗПР, вариант 7.2» организации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чина обращения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бучающийся в учебной деятельности  показывает слабые знания по основным предметам: математика, русский язык, чтение. С выполнением контрольных работ ученик не справился. перенос умений на учебную деятельность непродуктивен, низкая работоспособность и продуктивность, истощаемость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инамика познавательного развития отсутствует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C:\Users\Андрей\Pictures\шк4.png"/>
          <p:cNvPicPr/>
          <p:nvPr/>
        </p:nvPicPr>
        <p:blipFill>
          <a:blip r:embed="rId1"/>
          <a:stretch/>
        </p:blipFill>
        <p:spPr>
          <a:xfrm>
            <a:off x="-65160" y="2133720"/>
            <a:ext cx="9209160" cy="31813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419280" y="5373360"/>
            <a:ext cx="52671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Zhanna.uqolskaya@mail.ru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ЛАГОДАРЮ ЗА ВНИМАНИЕ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480" y="621720"/>
            <a:ext cx="7779240" cy="100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Нормативно-правовые документы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Picture 2" descr="C:\Users\Отдел кадров\Desktop\семинар\Изображение.jpg"/>
          <p:cNvPicPr/>
          <p:nvPr/>
        </p:nvPicPr>
        <p:blipFill>
          <a:blip r:embed="rId1"/>
          <a:stretch/>
        </p:blipFill>
        <p:spPr>
          <a:xfrm>
            <a:off x="942840" y="2362320"/>
            <a:ext cx="3178440" cy="4235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2"/>
          <a:srcRect l="8057" t="9309" r="57140" b="5617"/>
          <a:stretch/>
        </p:blipFill>
        <p:spPr>
          <a:xfrm>
            <a:off x="5291280" y="2362320"/>
            <a:ext cx="302868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Нормативно-правовые документ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10920" y="2362320"/>
            <a:ext cx="399708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ЭТИЧЕСК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КОДЕК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едагога-психолога службы практической психологи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бразования Росси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нят на Всероссийском съезде практических психологов образован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760640" y="2362320"/>
            <a:ext cx="398772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РАСНОДАРСКИЙ КРАЕВОЙ ИНСТИТУТ ДОПОЛНИТЕЛЬНОГО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ФЕССИОНАЛЬНОГО ПЕДАГОГИЧЕСКОГО ОБРАЗОВАНИЯ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АБОЧАЯ ТЕТРАДЬ ШКОЛЬНОГО ПСИХОЛОГА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етодические рекомендации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3366"/>
                </a:solidFill>
                <a:latin typeface="Arial"/>
              </a:rPr>
              <a:t>Авторы-составители: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i="1" lang="ru-RU" sz="800" spc="-1" strike="noStrike">
                <a:solidFill>
                  <a:srgbClr val="003366"/>
                </a:solidFill>
                <a:latin typeface="Arial"/>
              </a:rPr>
              <a:t>Рыженко С. К.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66"/>
                </a:solidFill>
                <a:latin typeface="Arial"/>
              </a:rPr>
              <a:t>кандидат психологических наук, заведующая кафедрой психологии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66"/>
                </a:solidFill>
                <a:latin typeface="Arial"/>
              </a:rPr>
              <a:t>Краснодарского краевого института дополнительного профессионального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66"/>
                </a:solidFill>
                <a:latin typeface="Arial"/>
              </a:rPr>
              <a:t>педагогического образования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i="1" lang="ru-RU" sz="800" spc="-1" strike="noStrike">
                <a:solidFill>
                  <a:srgbClr val="003366"/>
                </a:solidFill>
                <a:latin typeface="Arial"/>
              </a:rPr>
              <a:t>Чернявская О.С.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66"/>
                </a:solidFill>
                <a:latin typeface="Arial"/>
              </a:rPr>
              <a:t>старший преподаватель кафедры психологии Краснодарского краевого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66"/>
                </a:solidFill>
                <a:latin typeface="Arial"/>
              </a:rPr>
              <a:t>института дополнительного профессионального педагогического образования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1" i="1" lang="ru-RU" sz="800" spc="-1" strike="noStrike">
                <a:solidFill>
                  <a:srgbClr val="003366"/>
                </a:solidFill>
                <a:latin typeface="Arial"/>
              </a:rPr>
              <a:t>Рецензенты: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i="1" lang="ru-RU" sz="800" spc="-1" strike="noStrike">
                <a:solidFill>
                  <a:srgbClr val="003366"/>
                </a:solidFill>
                <a:latin typeface="Arial"/>
              </a:rPr>
              <a:t>Кузма Л.П., Ефрюшкина О.В.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7000" y="702360"/>
            <a:ext cx="7761240" cy="112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Принципы ПП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2320"/>
            <a:ext cx="819792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нцип гуманн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нцип комплексного изуч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нцип всестороннего и целостного изучения ребен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нцип индивидуализированности изучения ребенка 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четом их возрастных и характерологических особенносте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нцип динамического изуч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нципа обучающего эксперимен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нцип качественно-количественного подхо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56360" y="834120"/>
            <a:ext cx="83149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Компоненты </a:t>
            </a:r>
            <a:br>
              <a:rPr sz="3200"/>
            </a:br>
            <a:r>
              <a:rPr b="1" lang="ru-RU" sz="32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психолого-педагогического сопровожде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опровождение тьютора, ассистент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полнительные занятия  с педагого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нятия (групповые /индивидуальные ) с дефектологом (сурдопедагогом, тифлопедагогом, олигофренопедагогом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нятия (групповые /индивидуальные ) с логопедом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нятия (групповые /индивидуальные ) с психологом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нятия (групповые /индивидуальные ) с социальным педагогом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нятия ЛФК, занятия в специальной физкультурной группе, ритмикой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инамическая оценка состояния ребенка на ПП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234440" y="810720"/>
            <a:ext cx="7322040" cy="163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Этапы консилиумной  деятельности психолога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едварительный этап: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нализ актуальных ресурсов специалистов ОУ, анализ рекомендаций и условий включения ребенка , в том числе анализ документов и определение последовательности «прохождения» специалистов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ервый этап: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бследование ребенка профильными специалистами (в том числе и психологом). Составление индивидуальных заключений всеми специалистами консилиум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торой этап: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ллегиальное обсуждение специалистами полученных результатов обследования. Координация и согласованность взаимодействия специалистов. Определение тактики сопровождения ребенка в инклюзивном пространстве ОУ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етий этап: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еализация решений консилиума ОУ силами специалистов ОУ (внеурочная коррекционно-развивающая работа, включение абилитационной помощи в процесс обучения и воспитания и т.п.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вершающий этап: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инамическое/итоговое обследование ребенка (оценка состояния ребенка после окончания цикла сопровождения, учебного года, ступени образования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Задачи деятельности в процессе сопровождения обучающегося с ОВЗ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00000" y="2361960"/>
            <a:ext cx="8064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частие в разработк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ндивидуального Образовательного Плана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ИОП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инамическая оценка эффективности реализации ИОП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индивидуализированного образовательного маршрута 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ррекционных программ в рамках психолого-педагогического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опровождения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менение образовательной траектории ребенка в О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ординация взаимодействия специалистов по оказанию дополнительной специализированной помощи обучающимс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Равнобедренный треугольник 3"/>
          <p:cNvSpPr/>
          <p:nvPr/>
        </p:nvSpPr>
        <p:spPr>
          <a:xfrm>
            <a:off x="1547640" y="2205000"/>
            <a:ext cx="6120000" cy="4464000"/>
          </a:xfrm>
          <a:prstGeom prst="triangle">
            <a:avLst>
              <a:gd name="adj" fmla="val 50199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Прямая соединительная линия 5"/>
          <p:cNvSpPr/>
          <p:nvPr/>
        </p:nvSpPr>
        <p:spPr>
          <a:xfrm>
            <a:off x="3492360" y="3860640"/>
            <a:ext cx="2232000" cy="0"/>
          </a:xfrm>
          <a:prstGeom prst="line">
            <a:avLst/>
          </a:prstGeom>
          <a:ln w="22320">
            <a:solidFill>
              <a:srgbClr val="003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2771640" y="2637000"/>
            <a:ext cx="3745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ровень город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ПМП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2556000" y="5300640"/>
            <a:ext cx="4103640" cy="0"/>
          </a:xfrm>
          <a:prstGeom prst="line">
            <a:avLst/>
          </a:prstGeom>
          <a:ln w="22320">
            <a:solidFill>
              <a:srgbClr val="003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8080" y="825840"/>
            <a:ext cx="7874280" cy="88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Модель сопровождения обучающихс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Прямоугольник 19"/>
          <p:cNvSpPr/>
          <p:nvPr/>
        </p:nvSpPr>
        <p:spPr>
          <a:xfrm>
            <a:off x="1763640" y="3933720"/>
            <a:ext cx="568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ровень школы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ециалисты   сопровожде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сихолог, социальный педагог, логопед, дефектолог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Прямоугольник 20"/>
          <p:cNvSpPr/>
          <p:nvPr/>
        </p:nvSpPr>
        <p:spPr>
          <a:xfrm>
            <a:off x="2195640" y="5445000"/>
            <a:ext cx="489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ровень детского коллектив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ассный руководител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706320" y="499680"/>
            <a:ext cx="8163360" cy="131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Организация</a:t>
            </a: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психолого-педагогического сопровождения обучающегося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2320"/>
            <a:ext cx="798192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ариант 1: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 заключению ПМП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ариант 2: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 основании медицинского заключ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ариант 3: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ыявление обучающихся с особыми образовательными потребностям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ариант 4: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рганизация ПП сопровождения для обучающихся, испытывающего трудности в усвоении образовательных программ, развитии и социализации адапт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do</dc:creator>
  <dc:description/>
  <dc:language>en-US</dc:language>
  <cp:lastModifiedBy>39PC</cp:lastModifiedBy>
  <dcterms:modified xsi:type="dcterms:W3CDTF">2022-10-20T12:33:32Z</dcterms:modified>
  <cp:revision>115</cp:revision>
  <dc:subject/>
  <dc:title>PowerPoint Presentation</dc:title>
</cp:coreProperties>
</file>