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dt" idx="2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sldImg"/>
          </p:nvPr>
        </p:nvSpPr>
        <p:spPr>
          <a:xfrm>
            <a:off x="685800" y="685440"/>
            <a:ext cx="54864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ftr" idx="3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 type="sldNum" idx="3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DD9BD078-B06F-442D-AA4B-FA9D840299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ru-RU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CE9AA434-DCD2-489C-AAFA-2BA087F97F7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B63A-0E05-4C48-8B02-A7518B58B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E3DA-3B1F-4D7B-9A13-7E25E94C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7A5FC6-2DF6-45A7-884B-C60F66A5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8521D4-1DF6-4F37-9830-08AB9913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555F3B-8A72-4FE5-B8B9-999EE9B9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B877A2-D44B-4EB6-A2EA-41544342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5706E5-6904-460D-941A-102162C2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733DC2-DFBB-4083-956C-D8AD0AD9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43100C-C80D-4027-A5BA-6F688509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C271AE-3428-489D-9F17-2FE1DF914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8C541-4473-4F0D-9DAA-6EEBB9467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A7B7-2986-4E39-9010-20CF47AAF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F11C-E1E8-40BA-A47D-C434E228A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30492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4216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17904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9F9E-38C7-4DD5-BDE6-B5A44FE55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30492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4216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17904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111C-9544-48F4-B140-B21BD7F0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D1AE-33B9-4A58-A190-1A0E5047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CB8E-A2D0-4375-971A-3F212438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8161-9A18-47D2-8AD9-C393F693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6EC2E-5E29-4DFE-9D13-131D96DE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47D4-B25D-408D-B660-A308A68F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A2E5-8361-4A78-B898-D4F1BF38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1BC1-96E8-48BE-BDAC-DD98CD1A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DEC30-5B3D-4003-A158-316D0CED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D670-F869-4EE6-A576-89EEE2A9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4BB8-7B18-48CC-8B46-3D37910D2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F9A6-3D92-435C-8209-F79B12BBC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DF338-58A1-43B5-A977-E1498887B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3DBB0-2B0F-4189-BD0D-0FB3F440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8F4EE-2A31-461D-B3ED-816CF792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CCE15-4821-4957-874C-171D9EC8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6CA08-2A29-4C62-99CF-20D4D6A9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F793-5E35-43D9-AD32-81C307AA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D6915-682E-44D1-A019-FADC4DF8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24304-965F-4D9C-9A9F-6D68C638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3088E-C35C-4F55-B87A-C7271F2B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5B79C-5F91-4A91-8B4C-ABBF9D6C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51B1E-EAF0-434B-B649-96B271A2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D8C2B-9F0C-41E5-B763-EF9DBAA90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3B804-8BE8-4E28-94A8-03EE2AD38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F8CA2-0296-4D63-8496-E9F663349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A2B8A-34D6-467E-A3D4-1CEC0C4F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09F67-4A59-49D5-9CEB-19E7D56C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7BD1-BB71-4C74-AD10-725C6B0B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8DC84-B1C2-49AE-98F8-C12DA390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07B61-0CCC-4424-9581-96A9F5BA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F6A93-30EC-4A47-B143-74F0CE32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64C66-CA08-4980-9F0A-2E8C896A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B326A-CED1-4F4A-BB32-398A045A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FED3D-DBF9-48F3-B1B1-6F1F134B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945DF-30DD-455B-BEAB-C19CFEEC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E98FD-4E90-4390-923E-20205421A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304F5-635B-4A83-B186-D5523DEB8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D3A1C-1566-4F53-807D-C4EA2B0DD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02C2-DB11-4058-BEE3-1D6E856E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F52F6-9D7A-424B-AA5A-E2203CCC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04815-EEDC-4B43-9FEF-9674CDDD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116E3-C6EA-4D84-A840-03D48550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57D8F-CC33-4C32-ACBB-F2E2199F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57711-9F7C-47E5-916F-09E6A0F6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734F8-D48F-4565-9424-FBF17B74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AA945-960B-4587-BA84-CC023A8F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BFB86-C103-42F0-A6C9-98E3F969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541CF-0CFF-4F20-ADCF-E8BA8D9D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6F10F-65FE-47F6-AF94-B81D8D665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D459-3BBA-411D-AFA2-D3FCB6B3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A63B3-27D2-400D-86A9-D0D5EA12D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88E3B-79A0-487A-A68F-A30D40022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3B4F9-B6B3-456D-BB2C-FD301A51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BA2E6-5A7B-4D4E-8F48-AFEE3E6A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754C3-433F-4D9B-9B06-EA7A149F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BAFAF-E4F7-40E0-B75C-21E56A87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ECBFA-69C3-4AD7-A7F8-5992CF1D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2FDAA-A9C1-4994-AABB-E5CD7F9D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C95C7-002F-4D3B-BA08-64E265AB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225B8-676D-41DA-829A-3A1B1CA2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0707-19A6-4DAA-AD3E-863581A9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27160-1FFB-4823-89E6-7FBB873A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5FE6D-DDF6-41F6-9D1D-640BC53BE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06900-1A27-4B4F-885C-56650B9FD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A82DE-BA65-474D-8904-DA12D3F55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8EDC8-5104-493E-B1EE-20721B92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F5909-A9DD-4233-AB35-307E5DDE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62F14-DAB1-48D0-A690-CE81A747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CA19E-1133-4B7D-82AD-F69EB47F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76B9F-510A-4E83-BED2-0E5F6419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8B67E-1F1E-41C9-9917-C975712C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35D3-81F6-4CC9-9DD6-FF42FFE8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0D717-A01C-41CF-A300-0F3617C2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5776E-68A9-4E29-A850-EF7FB908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3DE1C-4424-4839-891C-0E658E5F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A1E58-3DB5-4D0C-BDC8-01027175F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611F0-69E2-4C48-AE18-91646A5E3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D1C14-26DE-454C-8BBF-5DFB8C863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0CBF6-73FA-47CD-98CD-CCA479B3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C44A5-A3EB-4A63-AE1A-68958E58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F8CE6-C5DD-4709-879A-443274E0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245D3-036B-47AD-810E-735C709C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4510-405D-41B7-895B-7939C563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988FE-92E8-4861-996A-951EE553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DA902-4A1D-4A76-875B-6A6D8C37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8AB20-ED71-4CF3-AD96-CE9F24FF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49B63-79C1-4A65-BF4F-C976AE41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A8003-1684-4932-9435-9EA8F727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EDA88-3C82-42AB-9315-37A3F06A0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530E5-F548-4FD1-8E29-5FBF08D25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6CDEC-85D9-4BA6-B2B8-2B5CC38CB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C37682-E202-45D5-95EC-BC739811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DA23AF-BD66-4BED-AE00-9C1826DB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s://presentation-creation.ru/" TargetMode="External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871560"/>
            <a:ext cx="8637840" cy="12600"/>
            <a:chOff x="512640" y="871560"/>
            <a:chExt cx="8637840" cy="1260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87156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8762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1" marL="676080" indent="-2599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2" marL="10400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3" marL="14558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4" marL="1872000" indent="-207720">
              <a:spcBef>
                <a:spcPts val="799"/>
              </a:spcBef>
              <a:buClr>
                <a:srgbClr val="f0ad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63000"/>
            <a:ext cx="25146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1200" spc="-1" strike="noStrike">
                <a:solidFill>
                  <a:srgbClr val="d398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ru-RU" sz="1200" spc="-1" strike="noStrike">
                <a:solidFill>
                  <a:srgbClr val="d398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3000"/>
            <a:ext cx="335304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5397120"/>
            <a:ext cx="76212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1200" spc="-1" strike="noStrike">
                <a:solidFill>
                  <a:srgbClr val="d398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5025B029-CB61-4CB1-BF67-11404E0B6B52}" type="slidenum">
              <a:rPr b="0" lang="ru-RU" sz="1200" spc="-1" strike="noStrike">
                <a:solidFill>
                  <a:srgbClr val="d398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871560"/>
            <a:ext cx="8637840" cy="12600"/>
            <a:chOff x="512640" y="871560"/>
            <a:chExt cx="8637840" cy="1260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87156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8762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878040"/>
            <a:ext cx="8637840" cy="12600"/>
            <a:chOff x="512640" y="878040"/>
            <a:chExt cx="863784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87804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880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Прямая соединительная линия 6"/>
          <p:cNvGrpSpPr/>
          <p:nvPr/>
        </p:nvGrpSpPr>
        <p:grpSpPr>
          <a:xfrm>
            <a:off x="512640" y="871560"/>
            <a:ext cx="8637840" cy="12600"/>
            <a:chOff x="512640" y="871560"/>
            <a:chExt cx="8637840" cy="12600"/>
          </a:xfrm>
        </p:grpSpPr>
        <p:pic>
          <p:nvPicPr>
            <p:cNvPr id="40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87156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14440" y="8762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Прямая соединительная линия 8"/>
          <p:cNvGrpSpPr/>
          <p:nvPr/>
        </p:nvGrpSpPr>
        <p:grpSpPr>
          <a:xfrm>
            <a:off x="512640" y="871560"/>
            <a:ext cx="8637840" cy="12600"/>
            <a:chOff x="512640" y="871560"/>
            <a:chExt cx="8637840" cy="12600"/>
          </a:xfrm>
        </p:grpSpPr>
        <p:pic>
          <p:nvPicPr>
            <p:cNvPr id="40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87156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14440" y="8762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Прямая соединительная линия 11"/>
          <p:cNvGrpSpPr/>
          <p:nvPr/>
        </p:nvGrpSpPr>
        <p:grpSpPr>
          <a:xfrm>
            <a:off x="512640" y="878040"/>
            <a:ext cx="8637840" cy="12600"/>
            <a:chOff x="512640" y="878040"/>
            <a:chExt cx="8637840" cy="12600"/>
          </a:xfrm>
        </p:grpSpPr>
        <p:pic>
          <p:nvPicPr>
            <p:cNvPr id="40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87804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14440" y="880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1" marL="676080" indent="-2599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2" marL="10400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3" marL="14558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4" marL="1872000" indent="-207720">
              <a:spcBef>
                <a:spcPts val="799"/>
              </a:spcBef>
              <a:buClr>
                <a:srgbClr val="f0ad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Прямая соединительная линия 6"/>
          <p:cNvGrpSpPr/>
          <p:nvPr/>
        </p:nvGrpSpPr>
        <p:grpSpPr>
          <a:xfrm>
            <a:off x="512640" y="871560"/>
            <a:ext cx="8637840" cy="12600"/>
            <a:chOff x="512640" y="871560"/>
            <a:chExt cx="8637840" cy="12600"/>
          </a:xfrm>
        </p:grpSpPr>
        <p:pic>
          <p:nvPicPr>
            <p:cNvPr id="447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87156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514440" y="8762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Прямая соединительная линия 8"/>
          <p:cNvGrpSpPr/>
          <p:nvPr/>
        </p:nvGrpSpPr>
        <p:grpSpPr>
          <a:xfrm>
            <a:off x="512640" y="871560"/>
            <a:ext cx="8637840" cy="12600"/>
            <a:chOff x="512640" y="871560"/>
            <a:chExt cx="8637840" cy="12600"/>
          </a:xfrm>
        </p:grpSpPr>
        <p:pic>
          <p:nvPicPr>
            <p:cNvPr id="450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87156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514440" y="8762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Прямая соединительная линия 11"/>
          <p:cNvGrpSpPr/>
          <p:nvPr/>
        </p:nvGrpSpPr>
        <p:grpSpPr>
          <a:xfrm>
            <a:off x="512640" y="878040"/>
            <a:ext cx="8637840" cy="12600"/>
            <a:chOff x="512640" y="878040"/>
            <a:chExt cx="8637840" cy="12600"/>
          </a:xfrm>
        </p:grpSpPr>
        <p:pic>
          <p:nvPicPr>
            <p:cNvPr id="453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87804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514440" y="880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1" marL="676080" indent="-2599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2" marL="10400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3" marL="14558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4" marL="1872000" indent="-207720">
              <a:spcBef>
                <a:spcPts val="799"/>
              </a:spcBef>
              <a:buClr>
                <a:srgbClr val="f0ad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ftr" idx="28"/>
          </p:nvPr>
        </p:nvSpPr>
        <p:spPr>
          <a:xfrm>
            <a:off x="1703520" y="5297040"/>
            <a:ext cx="573696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1200" spc="-1" strike="noStrike">
                <a:solidFill>
                  <a:srgbClr val="d398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ru-RU" sz="1200" spc="-1" strike="noStrike">
                <a:solidFill>
                  <a:srgbClr val="d39800"/>
                </a:solidFill>
                <a:latin typeface="Times New Roman"/>
              </a:rPr>
              <a:t>Шаблоны презентаций с сайта </a:t>
            </a:r>
            <a:r>
              <a:rPr b="0" lang="en-US" sz="1200" spc="-1" strike="noStrike" u="sng">
                <a:solidFill>
                  <a:srgbClr val="168bba"/>
                </a:solidFill>
                <a:uFillTx/>
                <a:latin typeface="Times New Roman"/>
                <a:hlinkClick r:id="rId5"/>
              </a:rPr>
              <a:t>presentation-creation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4449600"/>
            <a:ext cx="8637840" cy="19080"/>
            <a:chOff x="512640" y="4449600"/>
            <a:chExt cx="8637840" cy="1908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444960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44578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1" marL="676080" indent="-2599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2" marL="10400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3" marL="14558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4" marL="1872000" indent="-207720">
              <a:spcBef>
                <a:spcPts val="799"/>
              </a:spcBef>
              <a:buClr>
                <a:srgbClr val="f0ad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63000"/>
            <a:ext cx="25146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1200" spc="-1" strike="noStrike">
                <a:solidFill>
                  <a:srgbClr val="d398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ru-RU" sz="1200" spc="-1" strike="noStrike">
                <a:solidFill>
                  <a:srgbClr val="d398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3000"/>
            <a:ext cx="335304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5394240"/>
            <a:ext cx="758880" cy="2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1200" spc="-1" strike="noStrike">
                <a:solidFill>
                  <a:srgbClr val="d398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8A0E5D4E-1838-402E-B63D-F00795D56C29}" type="slidenum">
              <a:rPr b="0" lang="ru-RU" sz="1200" spc="-1" strike="noStrike">
                <a:solidFill>
                  <a:srgbClr val="d398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871560"/>
            <a:ext cx="8637840" cy="12600"/>
            <a:chOff x="512640" y="871560"/>
            <a:chExt cx="8637840" cy="1260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87156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8762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871560"/>
            <a:ext cx="8637840" cy="12600"/>
            <a:chOff x="512640" y="871560"/>
            <a:chExt cx="8637840" cy="1260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87156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8762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878040"/>
            <a:ext cx="8637840" cy="12600"/>
            <a:chOff x="512640" y="878040"/>
            <a:chExt cx="863784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87804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880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1" marL="676080" indent="-2599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2" marL="10400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3" marL="14558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4" marL="1872000" indent="-207720">
              <a:spcBef>
                <a:spcPts val="799"/>
              </a:spcBef>
              <a:buClr>
                <a:srgbClr val="f0ad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63000"/>
            <a:ext cx="25146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1200" spc="-1" strike="noStrike">
                <a:solidFill>
                  <a:srgbClr val="d398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ru-RU" sz="1200" spc="-1" strike="noStrike">
                <a:solidFill>
                  <a:srgbClr val="d398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63000"/>
            <a:ext cx="289584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5394240"/>
            <a:ext cx="758880" cy="2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1200" spc="-1" strike="noStrike">
                <a:solidFill>
                  <a:srgbClr val="d398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80674258-038D-43BC-804A-F4E64F9A3C1F}" type="slidenum">
              <a:rPr b="0" lang="ru-RU" sz="1200" spc="-1" strike="noStrike">
                <a:solidFill>
                  <a:srgbClr val="d398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2865600"/>
            <a:ext cx="8637840" cy="10800"/>
            <a:chOff x="512640" y="2865600"/>
            <a:chExt cx="8637840" cy="1080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2865600"/>
              <a:ext cx="8637840" cy="1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28702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4d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4d4d6"/>
              </a:solidFill>
              <a:latin typeface="Franklin Gothic Book"/>
            </a:endParaRPr>
          </a:p>
          <a:p>
            <a:pPr lvl="1" marL="676080" indent="-2599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4d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4d4d6"/>
              </a:solidFill>
              <a:latin typeface="Franklin Gothic Book"/>
            </a:endParaRPr>
          </a:p>
          <a:p>
            <a:pPr lvl="2" marL="10400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4d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4d4d6"/>
              </a:solidFill>
              <a:latin typeface="Franklin Gothic Book"/>
            </a:endParaRPr>
          </a:p>
          <a:p>
            <a:pPr lvl="3" marL="14558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4d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4d4d6"/>
              </a:solidFill>
              <a:latin typeface="Franklin Gothic Book"/>
            </a:endParaRPr>
          </a:p>
          <a:p>
            <a:pPr lvl="4" marL="1872000" indent="-207720">
              <a:spcBef>
                <a:spcPts val="799"/>
              </a:spcBef>
              <a:buClr>
                <a:srgbClr val="f0ad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4d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4d4d6"/>
              </a:solidFill>
              <a:latin typeface="Franklin Gothic Book"/>
            </a:endParaRPr>
          </a:p>
          <a:p>
            <a:pPr lvl="5" marL="1872000" indent="-20772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4d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4d4d6"/>
              </a:solidFill>
              <a:latin typeface="Franklin Gothic Book"/>
            </a:endParaRPr>
          </a:p>
          <a:p>
            <a:pPr lvl="6" marL="1872000" indent="-20772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4d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4d4d6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4d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4d4d6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63000"/>
            <a:ext cx="25146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1200" spc="-1" strike="noStrike">
                <a:solidFill>
                  <a:srgbClr val="d398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ru-RU" sz="1200" spc="-1" strike="noStrike">
                <a:solidFill>
                  <a:srgbClr val="d398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63000"/>
            <a:ext cx="335304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5397120"/>
            <a:ext cx="76212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1200" spc="-1" strike="noStrike">
                <a:solidFill>
                  <a:srgbClr val="d398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D12A87C7-0D32-4727-91A8-419B959F62CC}" type="slidenum">
              <a:rPr b="0" lang="ru-RU" sz="1200" spc="-1" strike="noStrike">
                <a:solidFill>
                  <a:srgbClr val="d398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5010120"/>
            <a:ext cx="8637840" cy="12600"/>
            <a:chOff x="512640" y="5010120"/>
            <a:chExt cx="863784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01012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50166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1" marL="676080" indent="-2599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2" marL="10400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3" marL="14558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4" marL="1872000" indent="-207720">
              <a:spcBef>
                <a:spcPts val="799"/>
              </a:spcBef>
              <a:buClr>
                <a:srgbClr val="f0ad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63000"/>
            <a:ext cx="25146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1200" spc="-1" strike="noStrike">
                <a:solidFill>
                  <a:srgbClr val="d398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ru-RU" sz="1200" spc="-1" strike="noStrike">
                <a:solidFill>
                  <a:srgbClr val="d398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3000"/>
            <a:ext cx="335304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5397120"/>
            <a:ext cx="7621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1200" spc="-1" strike="noStrike">
                <a:solidFill>
                  <a:srgbClr val="d398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A4140E50-5386-4AE6-9200-B5E4EC9B0EE1}" type="slidenum">
              <a:rPr b="0" lang="ru-RU" sz="1200" spc="-1" strike="noStrike">
                <a:solidFill>
                  <a:srgbClr val="d398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1" marL="676080" indent="-2599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2" marL="10400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3" marL="14558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4" marL="1872000" indent="-207720">
              <a:spcBef>
                <a:spcPts val="799"/>
              </a:spcBef>
              <a:buClr>
                <a:srgbClr val="f0ad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63000"/>
            <a:ext cx="25146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1200" spc="-1" strike="noStrike">
                <a:solidFill>
                  <a:srgbClr val="d398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ru-RU" sz="1200" spc="-1" strike="noStrike">
                <a:solidFill>
                  <a:srgbClr val="d398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63000"/>
            <a:ext cx="335304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5397120"/>
            <a:ext cx="76212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1200" spc="-1" strike="noStrike">
                <a:solidFill>
                  <a:srgbClr val="d398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CFBD5D0E-81FD-4FB2-B517-292BB534E141}" type="slidenum">
              <a:rPr b="0" lang="ru-RU" sz="1200" spc="-1" strike="noStrike">
                <a:solidFill>
                  <a:srgbClr val="d398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4870440"/>
            <a:ext cx="8637840" cy="12600"/>
            <a:chOff x="512640" y="4870440"/>
            <a:chExt cx="8637840" cy="1260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487044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48736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1" marL="676080" indent="-2599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2" marL="10400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3" marL="14558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4" marL="1872000" indent="-207720">
              <a:spcBef>
                <a:spcPts val="799"/>
              </a:spcBef>
              <a:buClr>
                <a:srgbClr val="f0ad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63000"/>
            <a:ext cx="25146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1200" spc="-1" strike="noStrike">
                <a:solidFill>
                  <a:srgbClr val="d398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ru-RU" sz="1200" spc="-1" strike="noStrike">
                <a:solidFill>
                  <a:srgbClr val="d398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63000"/>
            <a:ext cx="335304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5397120"/>
            <a:ext cx="76212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1200" spc="-1" strike="noStrike">
                <a:solidFill>
                  <a:srgbClr val="d398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4875B581-7424-46EE-9D07-EDF8951A29C6}" type="slidenum">
              <a:rPr b="0" lang="ru-RU" sz="1200" spc="-1" strike="noStrike">
                <a:solidFill>
                  <a:srgbClr val="d398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1" marL="676080" indent="-2599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2" marL="10400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3" marL="14558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4" marL="1872000" indent="-207720">
              <a:spcBef>
                <a:spcPts val="799"/>
              </a:spcBef>
              <a:buClr>
                <a:srgbClr val="f0ad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63000"/>
            <a:ext cx="25146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1200" spc="-1" strike="noStrike">
                <a:solidFill>
                  <a:srgbClr val="d398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ru-RU" sz="1200" spc="-1" strike="noStrike">
                <a:solidFill>
                  <a:srgbClr val="d398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63000"/>
            <a:ext cx="335304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5397120"/>
            <a:ext cx="76212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1200" spc="-1" strike="noStrike">
                <a:solidFill>
                  <a:srgbClr val="d398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D4567582-48EC-444E-A3CF-ECC2AA4B39B1}" type="slidenum">
              <a:rPr b="0" lang="ru-RU" sz="1200" spc="-1" strike="noStrike">
                <a:solidFill>
                  <a:srgbClr val="d398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1" marL="676080" indent="-2599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2" marL="10400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3" marL="14558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4" marL="1872000" indent="-207720">
              <a:spcBef>
                <a:spcPts val="799"/>
              </a:spcBef>
              <a:buClr>
                <a:srgbClr val="f0ad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63000"/>
            <a:ext cx="25146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1200" spc="-1" strike="noStrike">
                <a:solidFill>
                  <a:srgbClr val="d398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ru-RU" sz="1200" spc="-1" strike="noStrike">
                <a:solidFill>
                  <a:srgbClr val="d398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63000"/>
            <a:ext cx="335304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5397120"/>
            <a:ext cx="76212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1200" spc="-1" strike="noStrike">
                <a:solidFill>
                  <a:srgbClr val="d398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78041550-90A0-492B-AB89-BB92D3E85EEB}" type="slidenum">
              <a:rPr b="0" lang="ru-RU" sz="1200" spc="-1" strike="noStrike">
                <a:solidFill>
                  <a:srgbClr val="d398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Рисунок 5" descr="НКСЭ.jpg"/>
          <p:cNvPicPr/>
          <p:nvPr/>
        </p:nvPicPr>
        <p:blipFill>
          <a:blip r:embed="rId1"/>
          <a:stretch/>
        </p:blipFill>
        <p:spPr>
          <a:xfrm>
            <a:off x="2143080" y="2071800"/>
            <a:ext cx="4762440" cy="333360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7"/>
          <p:cNvSpPr/>
          <p:nvPr/>
        </p:nvSpPr>
        <p:spPr>
          <a:xfrm>
            <a:off x="297000" y="426960"/>
            <a:ext cx="8594640" cy="31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33473"/>
                </a:solidFill>
                <a:latin typeface="Franklin Gothic Book"/>
              </a:rPr>
              <a:t>Новороссийский колледж строительства и эконом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473"/>
                </a:solidFill>
                <a:latin typeface="Franklin Gothic Book"/>
              </a:rPr>
              <a:t>Сравнительный анализ результатов СПТ и мониторинга тревожности студ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Заголовок 1" descr=""/>
          <p:cNvPicPr/>
          <p:nvPr/>
        </p:nvPicPr>
        <p:blipFill>
          <a:blip r:embed="rId1"/>
          <a:stretch/>
        </p:blipFill>
        <p:spPr>
          <a:xfrm>
            <a:off x="1341360" y="195120"/>
            <a:ext cx="6454800" cy="908280"/>
          </a:xfrm>
          <a:prstGeom prst="rect">
            <a:avLst/>
          </a:prstGeom>
          <a:ln w="0">
            <a:noFill/>
          </a:ln>
        </p:spPr>
      </p:pic>
      <p:pic>
        <p:nvPicPr>
          <p:cNvPr id="527" name="Схема 3" descr=""/>
          <p:cNvPicPr/>
          <p:nvPr/>
        </p:nvPicPr>
        <p:blipFill>
          <a:blip r:embed="rId2"/>
          <a:stretch/>
        </p:blipFill>
        <p:spPr>
          <a:xfrm>
            <a:off x="628560" y="1395360"/>
            <a:ext cx="8070840" cy="3908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Заголовок 1" descr=""/>
          <p:cNvPicPr/>
          <p:nvPr/>
        </p:nvPicPr>
        <p:blipFill>
          <a:blip r:embed="rId1"/>
          <a:stretch/>
        </p:blipFill>
        <p:spPr>
          <a:xfrm>
            <a:off x="237960" y="384120"/>
            <a:ext cx="8753760" cy="72540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 txBox="1"/>
          <p:nvPr/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ак как СПТ носит, прежде всего, профилактический характер и призвано удержать несовершеннолетних студентов  от «экспериментов» с ПАВ, необходимо своевременно принять необходимые меры профилактики. </a:t>
            </a:r>
            <a:endParaRPr b="0" lang="en-US" sz="2000" spc="-1" strike="noStrike">
              <a:solidFill>
                <a:srgbClr val="5a6378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ы всегда ориентируем  профилактическую работу с несовершеннолетними на позитивное мышление и здоровый образ жизни. </a:t>
            </a:r>
            <a:endParaRPr b="0" lang="en-US" sz="2000" spc="-1" strike="noStrike">
              <a:solidFill>
                <a:srgbClr val="5a6378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стоянно привлекаем для проведения бесед  специалистов, работающих в специализированных медицинских учреждениях и организациях, деятельность которых направлена на профилактику незаконного потребления наркотических средств и психотропных веществ. </a:t>
            </a:r>
            <a:endParaRPr b="0" lang="en-US" sz="2000" spc="-1" strike="noStrike">
              <a:solidFill>
                <a:srgbClr val="5a6378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6378"/>
              </a:solidFill>
              <a:latin typeface="Franklin Gothic Book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Заголовок 1" descr=""/>
          <p:cNvPicPr/>
          <p:nvPr/>
        </p:nvPicPr>
        <p:blipFill>
          <a:blip r:embed="rId1"/>
          <a:stretch/>
        </p:blipFill>
        <p:spPr>
          <a:xfrm>
            <a:off x="596880" y="219240"/>
            <a:ext cx="8559720" cy="84132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 txBox="1"/>
          <p:nvPr/>
        </p:nvSpPr>
        <p:spPr>
          <a:xfrm>
            <a:off x="285840" y="1282680"/>
            <a:ext cx="850104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  <a:ea typeface="Arial"/>
              </a:rPr>
              <a:t>Групповые формы:</a:t>
            </a: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algn="just">
              <a:lnSpc>
                <a:spcPct val="150000"/>
              </a:lnSpc>
              <a:spcBef>
                <a:spcPts val="349"/>
              </a:spcBef>
              <a:buClr>
                <a:srgbClr val="f0ad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Проведение индивидуальных бесед, направленных на формирование жизнестойкости, уверенности в себе, устойчивости к возможным стрессовым ситуациям в период сдачи экзаменов.</a:t>
            </a:r>
            <a:endParaRPr b="0" lang="en-US" sz="1400" spc="-1" strike="noStrike">
              <a:solidFill>
                <a:srgbClr val="5a6378"/>
              </a:solidFill>
              <a:latin typeface="Franklin Gothic Book"/>
            </a:endParaRPr>
          </a:p>
          <a:p>
            <a:pPr algn="just">
              <a:lnSpc>
                <a:spcPct val="150000"/>
              </a:lnSpc>
              <a:spcBef>
                <a:spcPts val="349"/>
              </a:spcBef>
              <a:buClr>
                <a:srgbClr val="f0ad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Ведение информационно-просветительских бесед по профилактике курения, алкоголизма, наркомании и т.д.</a:t>
            </a:r>
            <a:endParaRPr b="0" lang="en-US" sz="1400" spc="-1" strike="noStrike">
              <a:solidFill>
                <a:srgbClr val="5a6378"/>
              </a:solidFill>
              <a:latin typeface="Franklin Gothic Book"/>
            </a:endParaRPr>
          </a:p>
          <a:p>
            <a:pPr algn="just">
              <a:lnSpc>
                <a:spcPct val="150000"/>
              </a:lnSpc>
              <a:spcBef>
                <a:spcPts val="349"/>
              </a:spcBef>
              <a:buClr>
                <a:srgbClr val="f0ad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Цикл классных часов с использованием презентаций и видеоматериалов</a:t>
            </a:r>
            <a:endParaRPr b="0" lang="en-US" sz="1400" spc="-1" strike="noStrike">
              <a:solidFill>
                <a:srgbClr val="5a6378"/>
              </a:solidFill>
              <a:latin typeface="Franklin Gothic Book"/>
            </a:endParaRPr>
          </a:p>
          <a:p>
            <a:pPr algn="just">
              <a:lnSpc>
                <a:spcPct val="150000"/>
              </a:lnSpc>
              <a:spcBef>
                <a:spcPts val="349"/>
              </a:spcBef>
              <a:buClr>
                <a:srgbClr val="f0ad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Психологические беседы в группах </a:t>
            </a:r>
            <a:endParaRPr b="0" lang="en-US" sz="1400" spc="-1" strike="noStrike">
              <a:solidFill>
                <a:srgbClr val="5a6378"/>
              </a:solidFill>
              <a:latin typeface="Franklin Gothic Book"/>
            </a:endParaRPr>
          </a:p>
          <a:p>
            <a:pPr algn="just">
              <a:lnSpc>
                <a:spcPct val="150000"/>
              </a:lnSpc>
              <a:spcBef>
                <a:spcPts val="349"/>
              </a:spcBef>
              <a:buClr>
                <a:srgbClr val="f0ad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«Родительский всеобуч»  онлайн</a:t>
            </a:r>
            <a:endParaRPr b="0" lang="en-US" sz="1400" spc="-1" strike="noStrike">
              <a:solidFill>
                <a:srgbClr val="5a6378"/>
              </a:solidFill>
              <a:latin typeface="Franklin Gothic Book"/>
            </a:endParaRPr>
          </a:p>
          <a:p>
            <a:pPr algn="just">
              <a:lnSpc>
                <a:spcPct val="150000"/>
              </a:lnSpc>
              <a:spcBef>
                <a:spcPts val="349"/>
              </a:spcBef>
              <a:buClr>
                <a:srgbClr val="f0ad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.Организация бесед с врачом психоневрологического диспансера по предупреждению аутоагрессивного и деструктивного поведения студентов.</a:t>
            </a:r>
            <a:endParaRPr b="0" lang="en-US" sz="1400" spc="-1" strike="noStrike">
              <a:solidFill>
                <a:srgbClr val="5a6378"/>
              </a:solidFill>
              <a:latin typeface="Franklin Gothic Book"/>
            </a:endParaRPr>
          </a:p>
          <a:p>
            <a:pPr algn="just">
              <a:spcBef>
                <a:spcPts val="349"/>
              </a:spcBef>
              <a:buClr>
                <a:srgbClr val="f0ad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a6378"/>
              </a:solidFill>
              <a:latin typeface="Franklin Gothic Book"/>
            </a:endParaRPr>
          </a:p>
          <a:p>
            <a:pPr algn="just">
              <a:spcBef>
                <a:spcPts val="349"/>
              </a:spcBef>
              <a:buClr>
                <a:srgbClr val="f0ad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a6378"/>
              </a:solidFill>
              <a:latin typeface="Franklin Gothic Book"/>
            </a:endParaRPr>
          </a:p>
          <a:p>
            <a:pPr algn="just">
              <a:spcBef>
                <a:spcPts val="349"/>
              </a:spcBef>
              <a:buClr>
                <a:srgbClr val="f0ad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a6378"/>
              </a:solidFill>
              <a:latin typeface="Franklin Gothic Book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a6378"/>
              </a:solidFill>
              <a:latin typeface="Franklin Gothic Book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Заголовок 1" descr=""/>
          <p:cNvPicPr/>
          <p:nvPr/>
        </p:nvPicPr>
        <p:blipFill>
          <a:blip r:embed="rId1"/>
          <a:stretch/>
        </p:blipFill>
        <p:spPr>
          <a:xfrm>
            <a:off x="237960" y="384120"/>
            <a:ext cx="8753760" cy="72540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 txBox="1"/>
          <p:nvPr/>
        </p:nvSpPr>
        <p:spPr>
          <a:xfrm>
            <a:off x="304920" y="1071720"/>
            <a:ext cx="8686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овместная работа классного руководителя и преподавателей. Наблюдение за поведением студентов группы «особого внимания». </a:t>
            </a: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онсультации и коррекционные занятия со студентами группы «особого внимания» по устранению и решению личностных проблем.</a:t>
            </a: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внеурочной занятости студентов группы «особого внимания». Привлечение студентов группы «особого внимания» к участию в творческих мероприятиях колледжа, в различных конкурсах, олимпиадах, викторинах.</a:t>
            </a: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систематических занятий физкультурой и спортом (секций, клубов, соревнований) с привлечением студентов группы «особого внимания» к участию в спортивных и военно-патриотических мероприятиях, соревнованиях.</a:t>
            </a: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Заголовок 1" descr=""/>
          <p:cNvPicPr/>
          <p:nvPr/>
        </p:nvPicPr>
        <p:blipFill>
          <a:blip r:embed="rId1"/>
          <a:stretch/>
        </p:blipFill>
        <p:spPr>
          <a:xfrm>
            <a:off x="237960" y="384120"/>
            <a:ext cx="8753760" cy="73188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 txBox="1"/>
          <p:nvPr/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ндивидуальные беседы по профилактике правонарушений, деструктивного и зависимого поведения, предупреждения употребления наркотиков и алкоголя, курения.</a:t>
            </a: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ндивидуальные беседы по формированию жизнестойкости,  профилактике аутодеструктивного и аддиктивного поведения, развития стрессоустойчивости и коммуникативной компетентности, </a:t>
            </a: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ивлечение студентов «группы риска» к участию в конкурсах рисунков, плакатов, буклетов и т.д.  по пропаганде ЗОЖ и профилактике употребления ПАВ.</a:t>
            </a: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овлечение студентов «группы риска» в социально-значимую деятельность и общественную работу в группе, колледже, городе (дежурство, трудовые десанты, волонтёрское движение, акции).</a:t>
            </a: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Заголовок 1" descr=""/>
          <p:cNvPicPr/>
          <p:nvPr/>
        </p:nvPicPr>
        <p:blipFill>
          <a:blip r:embed="rId1"/>
          <a:stretch/>
        </p:blipFill>
        <p:spPr>
          <a:xfrm>
            <a:off x="1146240" y="334800"/>
            <a:ext cx="6364080" cy="622440"/>
          </a:xfrm>
          <a:prstGeom prst="rect">
            <a:avLst/>
          </a:prstGeom>
          <a:ln w="0">
            <a:noFill/>
          </a:ln>
        </p:spPr>
      </p:pic>
      <p:pic>
        <p:nvPicPr>
          <p:cNvPr id="537" name="Объект 3" descr=""/>
          <p:cNvPicPr/>
          <p:nvPr/>
        </p:nvPicPr>
        <p:blipFill>
          <a:blip r:embed="rId2"/>
          <a:stretch/>
        </p:blipFill>
        <p:spPr>
          <a:xfrm>
            <a:off x="512640" y="1225440"/>
            <a:ext cx="8283600" cy="424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Заголовок 1" descr=""/>
          <p:cNvPicPr/>
          <p:nvPr/>
        </p:nvPicPr>
        <p:blipFill>
          <a:blip r:embed="rId1"/>
          <a:stretch/>
        </p:blipFill>
        <p:spPr>
          <a:xfrm>
            <a:off x="268200" y="285840"/>
            <a:ext cx="8723520" cy="56196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 txBox="1"/>
          <p:nvPr/>
        </p:nvSpPr>
        <p:spPr>
          <a:xfrm>
            <a:off x="304920" y="1142640"/>
            <a:ext cx="86868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indent="-68400" algn="just">
              <a:spcBef>
                <a:spcPts val="400"/>
              </a:spcBef>
              <a:buClr>
                <a:srgbClr val="f0ad00"/>
              </a:buClr>
              <a:buSzPct val="70000"/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a6378"/>
                </a:solidFill>
                <a:latin typeface="Franklin Gothic Book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 госпитальной шкале тревоги и депрессии HADS (А.С. Зигмонд и Р.П. Снайта)  тестируем всех студентов 1-2 курса (нл). Выявлением повышенный уровень тревоги и депрессии.(октябрь) То есть, предполагаем,  в латентную группу СПТ они попали именно по этим параметрам (не исключая остальных факторов риска).</a:t>
            </a: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68400" indent="-68400" algn="just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лучается, мы с ними работаем ДО получения результатов СПТ.</a:t>
            </a: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68400" indent="-68400" algn="just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е имея информации, по каким факторам студенты вошли в латентную группу СПТ, мы дополнительно их тестируем, тратим время и резурсы, выявляя, какие факторы риска преобладают у них. </a:t>
            </a: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68400" indent="-68400" algn="just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ледовательно, зная КАЧЕСТВЕННЫЕ результаты латентной группы СПТ, можно :</a:t>
            </a: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68400" indent="-68400" algn="just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1. Сразу сформировать целевые группы  для коррекции и профилактики, не тратя времени на диагностику и уже в ноябре полноценно работать и менно с целевыми группами.</a:t>
            </a: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68400" indent="-68400" algn="just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2. Можно обьяснить родителям и студентам причины направления на медосмотр.</a:t>
            </a: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68400" indent="-68400" algn="just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3. Снизить уровень тревожности студентов и напряженности родителей перед прохождением медосмотра.</a:t>
            </a: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68400" indent="-68400" algn="just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Заголовок 1" descr=""/>
          <p:cNvPicPr/>
          <p:nvPr/>
        </p:nvPicPr>
        <p:blipFill>
          <a:blip r:embed="rId1"/>
          <a:stretch/>
        </p:blipFill>
        <p:spPr>
          <a:xfrm>
            <a:off x="828720" y="4906800"/>
            <a:ext cx="8248680" cy="824040"/>
          </a:xfrm>
          <a:prstGeom prst="rect">
            <a:avLst/>
          </a:prstGeom>
          <a:ln w="0">
            <a:noFill/>
          </a:ln>
        </p:spPr>
      </p:pic>
      <p:pic>
        <p:nvPicPr>
          <p:cNvPr id="541" name="Рисунок 6" descr="НКСЭ.jpg"/>
          <p:cNvPicPr/>
          <p:nvPr/>
        </p:nvPicPr>
        <p:blipFill>
          <a:blip r:embed="rId2"/>
          <a:stretch/>
        </p:blipFill>
        <p:spPr>
          <a:xfrm>
            <a:off x="987480" y="341280"/>
            <a:ext cx="7527960" cy="4602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Заголовок 1" descr=""/>
          <p:cNvPicPr/>
          <p:nvPr/>
        </p:nvPicPr>
        <p:blipFill>
          <a:blip r:embed="rId1"/>
          <a:stretch/>
        </p:blipFill>
        <p:spPr>
          <a:xfrm>
            <a:off x="304920" y="384120"/>
            <a:ext cx="8686800" cy="73188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 txBox="1"/>
          <p:nvPr/>
        </p:nvSpPr>
        <p:spPr>
          <a:xfrm>
            <a:off x="304920" y="1143000"/>
            <a:ext cx="8686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8560" indent="-17856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Одним из путей решения важной социальной задачи по профилактике суицида является развитие и формирование эмоциональной устойчивости относительно различных воздействий внешней среды. </a:t>
            </a: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Тревожность и депрессия </a:t>
            </a: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непосредственно связаны с психоэмоциональным напряжением и являются маркерами для более внимательного отношения к студенту и дополнительного изучения личности. Выявление проблем в структуре личности, препятствующих адаптации в новых жизненных условиях, позволяет правильно организовать работу со студентами. </a:t>
            </a:r>
            <a:endParaRPr b="0" lang="en-US" sz="1400" spc="-1" strike="noStrike">
              <a:solidFill>
                <a:srgbClr val="5a6378"/>
              </a:solidFill>
              <a:latin typeface="Franklin Gothic Book"/>
            </a:endParaRPr>
          </a:p>
          <a:p>
            <a:pPr marL="178560" indent="-178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Успешная адаптация и учебная деятельность студентов зависит, в том числе, и психоэмоционального состояния. Изучение психоэмоциональных состояний (используем госпитальную шкалу) студентов позволяет разработать рекомендации по индивидуальному психолого-педагогическому воздействию, что обеспечивает понижение тревожности, повышение эмоциональной устойчивости и настроения.</a:t>
            </a: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, </a:t>
            </a: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снижение аутодеструктивного риска, развитие стрессоустойчивости.</a:t>
            </a:r>
            <a:endParaRPr b="0" lang="en-US" sz="1400" spc="-1" strike="noStrike">
              <a:solidFill>
                <a:srgbClr val="5a6378"/>
              </a:solidFill>
              <a:latin typeface="Franklin Gothic Book"/>
            </a:endParaRPr>
          </a:p>
          <a:p>
            <a:pPr marL="178560" indent="-178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Franklin Gothic Book"/>
              </a:rPr>
              <a:t>Задачи тестирования</a:t>
            </a:r>
            <a:endParaRPr b="0" lang="en-US" sz="1400" spc="-1" strike="noStrike">
              <a:solidFill>
                <a:srgbClr val="5a6378"/>
              </a:solidFill>
              <a:latin typeface="Franklin Gothic Book"/>
            </a:endParaRPr>
          </a:p>
          <a:p>
            <a:pPr marL="178560" indent="-178560">
              <a:spcBef>
                <a:spcPts val="34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1. Выявить уровень тревожности и уровень депрессии у несовершеннолетних студентов колледжа.</a:t>
            </a:r>
            <a:endParaRPr b="0" lang="en-US" sz="1400" spc="-1" strike="noStrike">
              <a:solidFill>
                <a:srgbClr val="5a6378"/>
              </a:solidFill>
              <a:latin typeface="Franklin Gothic Book"/>
            </a:endParaRPr>
          </a:p>
          <a:p>
            <a:pPr marL="178560" indent="-178560">
              <a:spcBef>
                <a:spcPts val="34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2. Составить рекомендации для классных руководителей  по индивидуальной работе со студентами по снижению уровня тревожности и депрессии на основе результатов исследования.</a:t>
            </a:r>
            <a:endParaRPr b="0" lang="en-US" sz="1400" spc="-1" strike="noStrike">
              <a:solidFill>
                <a:srgbClr val="5a6378"/>
              </a:solidFill>
              <a:latin typeface="Franklin Gothic Book"/>
            </a:endParaRPr>
          </a:p>
          <a:p>
            <a:pPr marL="178560" indent="-178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a6378"/>
              </a:solidFill>
              <a:latin typeface="Franklin Gothic Book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Заголовок 1" descr=""/>
          <p:cNvPicPr/>
          <p:nvPr/>
        </p:nvPicPr>
        <p:blipFill>
          <a:blip r:embed="rId1"/>
          <a:stretch/>
        </p:blipFill>
        <p:spPr>
          <a:xfrm>
            <a:off x="304920" y="384120"/>
            <a:ext cx="8686800" cy="84132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 txBox="1"/>
          <p:nvPr/>
        </p:nvSpPr>
        <p:spPr>
          <a:xfrm>
            <a:off x="304920" y="1142640"/>
            <a:ext cx="86868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algn="just">
              <a:buClr>
                <a:srgbClr val="0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Franklin Gothic Book"/>
                <a:ea typeface="Times New Roman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Franklin Gothic Book"/>
                <a:ea typeface="Times New Roman"/>
              </a:rPr>
              <a:t>ЕМ СПТ </a:t>
            </a:r>
            <a:r>
              <a:rPr b="0" lang="ru-RU" sz="16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– это психодиагностическое обследование, позволяющее выявлять исключительно психологические "факторы риска" возможного вовлечения в зависимое поведение, связанные с дефицитом ресурсов психологической "устойчивости" личности.</a:t>
            </a: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algn="just">
              <a:buClr>
                <a:srgbClr val="0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Полученные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Franklin Gothic Book"/>
                <a:ea typeface="Times New Roman"/>
              </a:rPr>
              <a:t>результаты СПТ </a:t>
            </a:r>
            <a:r>
              <a:rPr b="0" lang="ru-RU" sz="16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носят прогностический, вероятностный характер.</a:t>
            </a: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algn="just">
              <a:buClr>
                <a:srgbClr val="0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algn="just">
              <a:buClr>
                <a:srgbClr val="0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Franklin Gothic Book"/>
                <a:ea typeface="Times New Roman"/>
              </a:rPr>
              <a:t>Количество отказов </a:t>
            </a:r>
            <a:r>
              <a:rPr b="0" lang="ru-RU" sz="16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от проведения СПТ всего-2 из 2987 ( 0, 06%)</a:t>
            </a: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Franklin Gothic Book"/>
                <a:ea typeface="Times New Roman"/>
              </a:rPr>
              <a:t> </a:t>
            </a: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algn="just">
              <a:buClr>
                <a:srgbClr val="0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Franklin Gothic Book"/>
                <a:ea typeface="Times New Roman"/>
              </a:rPr>
              <a:t>В ходе тестирования </a:t>
            </a:r>
            <a:r>
              <a:rPr b="0" lang="ru-RU" sz="16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были определенные трудности при ответах, так как вопросы были непонятны некоторым респондентам, имели двойной смысл и сложное построение. Приходилось объяснять то или иное выражение, что затрудняло процесс выполнения и занимало много времени и в дальнейшем повлияло на показатели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.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ходе СПТ осуществлялась оценка вероятности вовлечения в аддиктивное поведение на основе соотношения факторов риска и факторов защиты, воздействующих на обследуемых</a:t>
            </a: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Заголовок 1" descr=""/>
          <p:cNvPicPr/>
          <p:nvPr/>
        </p:nvPicPr>
        <p:blipFill>
          <a:blip r:embed="rId1"/>
          <a:stretch/>
        </p:blipFill>
        <p:spPr>
          <a:xfrm>
            <a:off x="208080" y="384120"/>
            <a:ext cx="8783640" cy="80496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 txBox="1"/>
          <p:nvPr/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отребность в одобрении</a:t>
            </a:r>
            <a:endParaRPr b="0" lang="en-US" sz="2000" spc="-1" strike="noStrike">
              <a:solidFill>
                <a:srgbClr val="5a6378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одверженность влиянию группы</a:t>
            </a:r>
            <a:endParaRPr b="0" lang="en-US" sz="2000" spc="-1" strike="noStrike">
              <a:solidFill>
                <a:srgbClr val="5a6378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инятие асоциальных установок</a:t>
            </a:r>
            <a:endParaRPr b="0" lang="en-US" sz="2000" spc="-1" strike="noStrike">
              <a:solidFill>
                <a:srgbClr val="5a6378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клонность к риску (опасности)</a:t>
            </a:r>
            <a:endParaRPr b="0" lang="en-US" sz="2000" spc="-1" strike="noStrike">
              <a:solidFill>
                <a:srgbClr val="5a6378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Импульсивность</a:t>
            </a:r>
            <a:endParaRPr b="0" lang="en-US" sz="2000" spc="-1" strike="noStrike">
              <a:solidFill>
                <a:srgbClr val="5a6378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Тревожность</a:t>
            </a:r>
            <a:endParaRPr b="0" lang="en-US" sz="2000" spc="-1" strike="noStrike">
              <a:solidFill>
                <a:srgbClr val="5a6378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Фрустрация</a:t>
            </a:r>
            <a:endParaRPr b="0" lang="en-US" sz="2000" spc="-1" strike="noStrike">
              <a:solidFill>
                <a:srgbClr val="5a6378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аркопотребление в социальном окружении</a:t>
            </a:r>
            <a:endParaRPr b="0" lang="en-US" sz="2000" spc="-1" strike="noStrike">
              <a:solidFill>
                <a:srgbClr val="5a6378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6378"/>
              </a:solidFill>
              <a:latin typeface="Franklin Gothic Book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Заголовок 2" descr=""/>
          <p:cNvPicPr/>
          <p:nvPr/>
        </p:nvPicPr>
        <p:blipFill>
          <a:blip r:embed="rId1"/>
          <a:stretch/>
        </p:blipFill>
        <p:spPr>
          <a:xfrm>
            <a:off x="1073160" y="231840"/>
            <a:ext cx="6827760" cy="907920"/>
          </a:xfrm>
          <a:prstGeom prst="rect">
            <a:avLst/>
          </a:prstGeom>
          <a:ln w="0">
            <a:noFill/>
          </a:ln>
        </p:spPr>
      </p:pic>
      <p:pic>
        <p:nvPicPr>
          <p:cNvPr id="510" name="Схема 5" descr=""/>
          <p:cNvPicPr/>
          <p:nvPr/>
        </p:nvPicPr>
        <p:blipFill>
          <a:blip r:embed="rId2"/>
          <a:stretch/>
        </p:blipFill>
        <p:spPr>
          <a:xfrm>
            <a:off x="201600" y="1200240"/>
            <a:ext cx="8734320" cy="409716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Заголовок 1" descr=""/>
          <p:cNvPicPr/>
          <p:nvPr/>
        </p:nvPicPr>
        <p:blipFill>
          <a:blip r:embed="rId1"/>
          <a:stretch/>
        </p:blipFill>
        <p:spPr>
          <a:xfrm>
            <a:off x="542880" y="231840"/>
            <a:ext cx="8143920" cy="858600"/>
          </a:xfrm>
          <a:prstGeom prst="rect">
            <a:avLst/>
          </a:prstGeom>
          <a:ln w="0">
            <a:noFill/>
          </a:ln>
        </p:spPr>
      </p:pic>
      <p:sp>
        <p:nvSpPr>
          <p:cNvPr id="512" name="Овал 4"/>
          <p:cNvSpPr/>
          <p:nvPr/>
        </p:nvSpPr>
        <p:spPr>
          <a:xfrm>
            <a:off x="357120" y="1214280"/>
            <a:ext cx="647640" cy="540000"/>
          </a:xfrm>
          <a:prstGeom prst="ellipse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5"/>
          <p:cNvSpPr/>
          <p:nvPr/>
        </p:nvSpPr>
        <p:spPr>
          <a:xfrm>
            <a:off x="357120" y="2143080"/>
            <a:ext cx="647640" cy="539640"/>
          </a:xfrm>
          <a:prstGeom prst="ellipse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6"/>
          <p:cNvSpPr/>
          <p:nvPr/>
        </p:nvSpPr>
        <p:spPr>
          <a:xfrm>
            <a:off x="357120" y="3071880"/>
            <a:ext cx="647640" cy="539640"/>
          </a:xfrm>
          <a:prstGeom prst="ellipse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Овал 7"/>
          <p:cNvSpPr/>
          <p:nvPr/>
        </p:nvSpPr>
        <p:spPr>
          <a:xfrm>
            <a:off x="357120" y="4000680"/>
            <a:ext cx="647640" cy="539640"/>
          </a:xfrm>
          <a:prstGeom prst="ellipse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Прямоугольник 2"/>
          <p:cNvSpPr/>
          <p:nvPr/>
        </p:nvSpPr>
        <p:spPr>
          <a:xfrm>
            <a:off x="1187280" y="996840"/>
            <a:ext cx="763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становить социально - психологические условия (социальную ситуацию развития обучающихся), формирующие психологическую готовность к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деструктивному поведению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 лиц подросткового и юношеского возрас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Прямоугольник 9"/>
          <p:cNvSpPr/>
          <p:nvPr/>
        </p:nvSpPr>
        <p:spPr>
          <a:xfrm>
            <a:off x="1214280" y="1913040"/>
            <a:ext cx="7318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ыявить обучающихся с повышенной  вероятностью  вовлечения в различные формы деструктивного  поведения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Прямоугольник 15"/>
          <p:cNvSpPr/>
          <p:nvPr/>
        </p:nvSpPr>
        <p:spPr>
          <a:xfrm>
            <a:off x="1214280" y="2928960"/>
            <a:ext cx="655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оставить индивидуальные и сводную карты рисков по каждой группе в СП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Прямоугольник 17"/>
          <p:cNvSpPr/>
          <p:nvPr/>
        </p:nvSpPr>
        <p:spPr>
          <a:xfrm>
            <a:off x="1214280" y="4071960"/>
            <a:ext cx="729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рганизовать  адресную  и системную  работу с обучающимися в групповой и индивидуальной  форме, направленную на профилактику вовлечения  их в деструктивные формы п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Заголовок 1" descr=""/>
          <p:cNvPicPr/>
          <p:nvPr/>
        </p:nvPicPr>
        <p:blipFill>
          <a:blip r:embed="rId1"/>
          <a:stretch/>
        </p:blipFill>
        <p:spPr>
          <a:xfrm>
            <a:off x="304920" y="384120"/>
            <a:ext cx="8686800" cy="725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1" name=""/>
          <p:cNvGraphicFramePr/>
          <p:nvPr/>
        </p:nvGraphicFramePr>
        <p:xfrm>
          <a:off x="1258920" y="1357200"/>
          <a:ext cx="6742080" cy="3727440"/>
        </p:xfrm>
        <a:graphic>
          <a:graphicData uri="http://schemas.openxmlformats.org/drawingml/2006/table">
            <a:tbl>
              <a:tblPr/>
              <a:tblGrid>
                <a:gridCol w="1650960"/>
                <a:gridCol w="1720800"/>
                <a:gridCol w="1684440"/>
                <a:gridCol w="1685880"/>
              </a:tblGrid>
              <a:tr h="98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сего прошло СП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личество студентов  латентной групп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цент выявлен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547560"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 кур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,7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47560"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 кур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,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47920"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 кур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47560"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 кур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47560"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9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Заголовок 1" descr=""/>
          <p:cNvPicPr/>
          <p:nvPr/>
        </p:nvPicPr>
        <p:blipFill>
          <a:blip r:embed="rId1"/>
          <a:stretch/>
        </p:blipFill>
        <p:spPr>
          <a:xfrm>
            <a:off x="304920" y="189000"/>
            <a:ext cx="8686800" cy="66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3" name=""/>
          <p:cNvGraphicFramePr/>
          <p:nvPr/>
        </p:nvGraphicFramePr>
        <p:xfrm>
          <a:off x="428760" y="1000080"/>
          <a:ext cx="8358120" cy="3760920"/>
        </p:xfrm>
        <a:graphic>
          <a:graphicData uri="http://schemas.openxmlformats.org/drawingml/2006/table">
            <a:tbl>
              <a:tblPr/>
              <a:tblGrid>
                <a:gridCol w="714240"/>
                <a:gridCol w="666720"/>
                <a:gridCol w="654120"/>
                <a:gridCol w="581040"/>
                <a:gridCol w="654120"/>
                <a:gridCol w="726840"/>
                <a:gridCol w="581040"/>
                <a:gridCol w="654120"/>
                <a:gridCol w="654120"/>
                <a:gridCol w="1017720"/>
                <a:gridCol w="1454040"/>
              </a:tblGrid>
              <a:tr h="945360">
                <a:tc rowSpan="2"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ур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ad00"/>
                    </a:solidFill>
                  </a:tcPr>
                </a:tc>
                <a:tc rowSpan="2"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удент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ad00"/>
                    </a:solidFill>
                  </a:tcPr>
                </a:tc>
                <a:tc gridSpan="3"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евож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ad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прес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ad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Т и К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ad00"/>
                    </a:solidFill>
                  </a:tcPr>
                </a:tc>
                <a:tc rowSpan="2"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% КТ+К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ad00"/>
                    </a:solidFill>
                  </a:tcPr>
                </a:tc>
                <a:tc rowSpan="2"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твержденные результаты (направлены на консультацию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85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3c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760"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кур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8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1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607320"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кур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7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6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800640"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15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1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11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Заголовок 1" descr=""/>
          <p:cNvPicPr/>
          <p:nvPr/>
        </p:nvPicPr>
        <p:blipFill>
          <a:blip r:embed="rId1"/>
          <a:stretch/>
        </p:blipFill>
        <p:spPr>
          <a:xfrm>
            <a:off x="304920" y="384120"/>
            <a:ext cx="8686800" cy="725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5" name=""/>
          <p:cNvGraphicFramePr/>
          <p:nvPr/>
        </p:nvGraphicFramePr>
        <p:xfrm>
          <a:off x="785880" y="1295280"/>
          <a:ext cx="7286400" cy="3260880"/>
        </p:xfrm>
        <a:graphic>
          <a:graphicData uri="http://schemas.openxmlformats.org/drawingml/2006/table">
            <a:tbl>
              <a:tblPr/>
              <a:tblGrid>
                <a:gridCol w="1255680"/>
                <a:gridCol w="2030400"/>
                <a:gridCol w="2071800"/>
                <a:gridCol w="1928520"/>
              </a:tblGrid>
              <a:tr h="1930680">
                <a:tc>
                  <a:txBody>
                    <a:bodyPr lIns="109080" rIns="10908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9080" marR="10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109080" rIns="10908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одтвержденная группа риска по тестированию в колледж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9080" marR="10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109080" rIns="10908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атентная группа по СП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9080" marR="10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109080" rIns="10908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овпадение по двум методик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9080" marR="10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406080">
                <a:tc>
                  <a:txBody>
                    <a:bodyPr lIns="109080" rIns="10908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 кур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9080" marR="10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9080" rIns="10908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9080" marR="10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9080" rIns="10908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9080" marR="10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9080" rIns="10908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9080" marR="10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406080">
                <a:tc>
                  <a:txBody>
                    <a:bodyPr lIns="109080" rIns="10908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 кур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9080" marR="10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9080" rIns="10908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9080" marR="10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9080" rIns="10908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9080" marR="10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9080" rIns="10908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9080" marR="10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406080">
                <a:tc>
                  <a:txBody>
                    <a:bodyPr lIns="109080" rIns="10908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9080" marR="10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9080" rIns="10908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9080" marR="10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9080" rIns="10908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9080" marR="10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9080" rIns="10908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9080" marR="10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406080">
                <a:tc>
                  <a:txBody>
                    <a:bodyPr lIns="109080" rIns="10908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9080" marR="10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9080" rIns="10908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9080" marR="10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9080" rIns="10908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9080" marR="10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9080" rIns="10908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9080" marR="10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5T17:04:43Z</dcterms:created>
  <dc:creator>Юрий Козырев</dc:creator>
  <dc:description/>
  <dc:language>en-US</dc:language>
  <cp:lastModifiedBy>Пользователь</cp:lastModifiedBy>
  <dcterms:modified xsi:type="dcterms:W3CDTF">2022-06-14T08:32:49Z</dcterms:modified>
  <cp:revision>329</cp:revision>
  <dc:subject/>
  <dc:title>Презентация PowerPoint</dc:title>
</cp:coreProperties>
</file>