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A82FC-8EDA-44DC-9085-9ED643733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33725-C12B-4FC7-9A1D-A579E44E3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34969-F862-4593-BC66-CA4D93072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05032-7AD9-4E94-A98C-61ACC5021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68C28-EF9F-4E21-93EC-2E77928AC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02BE9-5669-4BF4-AB45-287D95E6D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6255D-75EA-448C-A1D8-F226E8DAC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04D48-4673-48C5-8582-A05C79288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8901A-8313-4E51-AF9B-8F956EA02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9E2B7-20A7-422E-BB6A-27E9CB14D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638BE-08E5-4D15-8675-5E89BA2B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F8327-1812-4FC4-9C82-404C1391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DBF1B-9069-4DFF-9DD2-CD7B3C3A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707FE-CE36-4CAC-9CB8-1E440D63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8E794-006E-4831-B735-BA5DC88CC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91875-3955-42C4-9DFE-09B2FD4C5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5E80C-88ED-46F1-A60E-34D656996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99A67-13BE-4AAE-A641-A1AF24F1E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5034C-914B-4C2A-A8BD-3362DC1E2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B1517-FFC0-455E-B3FB-94EF33BF0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DB5A9-925B-41AF-BE4D-99E7B7656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4996A-57A2-4BB1-9ED8-B245D97A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AC313-063B-4786-A8B2-AD82A5D5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DF9A0-E3E2-4BFB-A60D-EAF94449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5088E-37C2-4BC0-B61E-9DE9EA0F15D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33110-61CE-464D-9E46-8857EBDF640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houzz.ru/photos/7492884/scandinavian-style-on-a-budget-in-a-small-city-apartment-skandinavskiy-amsterdam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Основы профилактики аутодеструктивного поведения подрост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08720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ЭТАПЫ РАБОТ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cript MT Bold"/>
              </a:rPr>
              <a:t>/ </a:t>
            </a:r>
            <a:r>
              <a:rPr b="0" i="1" lang="ru-RU" sz="2400" spc="-1" strike="noStrike">
                <a:solidFill>
                  <a:srgbClr val="000000"/>
                </a:solidFill>
                <a:latin typeface="Script MT Bold"/>
              </a:rPr>
              <a:t>этап </a:t>
            </a:r>
            <a:r>
              <a:rPr b="0" lang="ru-RU" sz="2400" spc="-1" strike="noStrike">
                <a:solidFill>
                  <a:srgbClr val="000000"/>
                </a:solidFill>
                <a:latin typeface="Script MT Bold"/>
              </a:rPr>
              <a:t>— подготовка субспециалистов из числа работающих с конкретной группой подростков. С этой целью проводится интенсивная программа (24-часовой цикл заняти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cript MT Bold"/>
              </a:rPr>
              <a:t>// </a:t>
            </a:r>
            <a:r>
              <a:rPr b="0" i="1" lang="ru-RU" sz="2400" spc="-1" strike="noStrike">
                <a:solidFill>
                  <a:srgbClr val="000000"/>
                </a:solidFill>
                <a:latin typeface="Script MT Bold"/>
              </a:rPr>
              <a:t>этап </a:t>
            </a:r>
            <a:r>
              <a:rPr b="0" lang="ru-RU" sz="2400" spc="-1" strike="noStrike">
                <a:solidFill>
                  <a:srgbClr val="000000"/>
                </a:solidFill>
                <a:latin typeface="Script MT Bold"/>
              </a:rPr>
              <a:t>— работа с подростками (долгосрочная программа в течение года — 39-часовой цикл 2 раза в неделю или 1-2раза в, месяц по 4-6 часо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cript MT Bold"/>
              </a:rPr>
              <a:t>/// </a:t>
            </a:r>
            <a:r>
              <a:rPr b="0" i="1" lang="ru-RU" sz="2400" spc="-1" strike="noStrike">
                <a:solidFill>
                  <a:srgbClr val="000000"/>
                </a:solidFill>
                <a:latin typeface="Script MT Bold"/>
              </a:rPr>
              <a:t>этап </a:t>
            </a:r>
            <a:r>
              <a:rPr b="0" lang="ru-RU" sz="2400" spc="-1" strike="noStrike">
                <a:solidFill>
                  <a:srgbClr val="000000"/>
                </a:solidFill>
                <a:latin typeface="Script MT Bold"/>
              </a:rPr>
              <a:t>— параллельная работа с родителями в течение года (16-ч совой цикл занятий 1-2 раза в месяц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РОЦЕДУРНЫЕ ФОРМЫ ПСИХОЛОГИЧЕСКОГО СОПРОВОЖДЕНИЯ В ПРОЕКТЕ «ПЕРЕШЕЕ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ичностные и проективные психологические методик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дивидуальная и групповая рефлекс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сихогимнастические процедуры;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тоды саморегуля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дение дневников участниками групп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ажнения, моделирующие школьные ситуации, ситуации с конфликтным содержанием, насильственным предложением употребить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ркосодержащие веществ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левые игры со скрытым мотивом, обратной связь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искусс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зговой штур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дитации, работа с воображение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-лекции по специальным вопроса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сиходрама;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лементы индивидуальной и групповой психотерап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рганизация и использование массовых мероприятий (дискотеки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круглые столы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упервиз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ведение методических занятий с супервизор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44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cript MT Bold"/>
              </a:rPr>
              <a:t>ПРИМЕРНАЯ СТРУКТУРА ЗАНЯТ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0" y="681120"/>
          <a:ext cx="9144000" cy="6176880"/>
        </p:xfrm>
        <a:graphic>
          <a:graphicData uri="http://schemas.openxmlformats.org/drawingml/2006/table">
            <a:tbl>
              <a:tblPr/>
              <a:tblGrid>
                <a:gridCol w="1200240"/>
                <a:gridCol w="909720"/>
                <a:gridCol w="2638080"/>
                <a:gridCol w="2324160"/>
                <a:gridCol w="2071800"/>
              </a:tblGrid>
              <a:tr h="3254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ч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ч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4000"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ет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в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ми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Вхождение в в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транство занятия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Обозначить начало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туалы начал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аждом занятии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ательно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вторять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ин и тот же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туа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ми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лексия состояния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ов, оценк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оспособност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 чем они пришли на группу, как себя сейчас ощущают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ос, ассоциации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цветом и другие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емы, котор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ждый раз могут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рывать ново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аждо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и мож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ые упраж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30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ин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ми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Включение в совместную деятельность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Объединение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лочение групп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Создание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ожелат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атмосфер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гимнастические упражнения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е или мене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вижные игры с четко определенными правила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ательно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бы трене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 участвова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роводим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а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4000"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п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-60 ми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чи, соответствую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е занят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ые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нообраз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ые формы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иально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холог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54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ин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ми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Снятие напряжения, усталости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Переключ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ую тему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Сплочение групп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гимнастические упраж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возможности приближа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щие к новой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е игр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4000"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п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-30 ми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чи соответствую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е занят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ые разнообразные активные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социально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гут быть домашние зад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3920"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ерше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е занят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-30 ми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Возможность «отстояться» сознанию,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ансировать энергию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Вырабатывать 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реплять навыки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регул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лаксацион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тативные технологии, упражнения направленно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ображ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использованием музыкального фо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288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щ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мину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значить коне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туал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ательно осуществлять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ин и тот же ритуа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1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рытия группы на протяжении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й программ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44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цедура 1—2. «Информирование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ознать правила, по которым будет жить группа в дальнейш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м с вами предстоит прожить небольшую, но очень интенсивную жизнь в этом круге. Жизнь эта будет протекать по определенным правилам. Вот эти правила. Они предлагаются для вашего свободного обсуждения и принятия или непринятия их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изическая закрытос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рупп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мы будем работать от начала и до конца в одном составе. Желательно соблюдать дисциплину и ходить на все занятия, без перерыв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сихологическая закрытос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все происходящее в группе не должно выноситься за ее пределы. Сами понимаете: если человек не присутствует в круге, не понимает сути происходящего, то он может неправильно истолковывать пересказанные события, извратить их. Все, что делается в круге, касается только членов групп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Дозированная» откровенность и искреннос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члены группы могут быть искренними в своих суждениях, откровенны настолько, насколько они считают возможным на данный момент, в атмосфере данной групп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Я-высказывания»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жно, чтобы каждый человек в группе начинал говорить только от своего имени, так он может нести ответственность за то, что в реальности думает, чувствует. Обратный пример: «Все считают, что Сережа не прав». Правильный вариант: «Я считаю, что Сережа поступил несправедливо, в связи с чем я испытываю разочарование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авило «Стоп!»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Тот член группы, который не хочет отвечать на какой-либо вопрос, участвовать в какой-либо игре или процедуре из-за нежелания быть искренним или из-за неготовности быть откровенным, имеет право сказать «Стоп!» и тем самым исключить себя из участия в процедур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ктивность, ответственнос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ждого за результаты деятельности групп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Это правило подразумевает зависимость эффективности групповой работы от вклада каждого ее члена и необходимость трудиться не только для себя, для решения собственных проблем, но и для других, ибо работа на другого есть способ познания себ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43400" y="1828800"/>
            <a:ext cx="284796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ЦЕПТУАЛЬНЫЕ ОСНО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https://samopoznanie.kz/avatars/objects/3-234338_1_6.jpg?1556393924"/>
          <p:cNvPicPr/>
          <p:nvPr/>
        </p:nvPicPr>
        <p:blipFill>
          <a:blip r:embed="rId1"/>
          <a:stretch/>
        </p:blipFill>
        <p:spPr>
          <a:xfrm>
            <a:off x="0" y="142920"/>
            <a:ext cx="591804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0" y="785880"/>
            <a:ext cx="9144000" cy="631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одель комплексного развития лич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Цветок потенциалов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жет быть успешно применена дл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филактики и коррекц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щего девиантного синдрома адаптации (ОДСА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нный синдром относится к донозологическим ступеня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рушений адаптации на трех уровнях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веденческо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мотивация избегания неуспех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уверенное поведение, низкая «социальная смелость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т. д.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моционально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тревожность, пониженный фон настроения, раздражительность, агрессивность и т. д.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гнитивно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искаженная карта мировосприятия, пессимистическое восприятие окружающего мира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ждый уровень имеет набор определенных компонентов, являющихся, в свою очередь, индикаторами степени выраженности синдром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м больше формируется и проявляется компонентов ОДС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м выше риск возникновения нарушений нервно-психической регуляци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ледствием чего становятся различные расстройства здоровья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сихосоматические заболевани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рвно-психические проблем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девиантные формы повед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https://3.404content.com/1/81/69/1027570088390689852/fullsize.jpg"/>
          <p:cNvPicPr/>
          <p:nvPr/>
        </p:nvPicPr>
        <p:blipFill>
          <a:blip r:embed="rId1"/>
          <a:stretch/>
        </p:blipFill>
        <p:spPr>
          <a:xfrm>
            <a:off x="5429160" y="0"/>
            <a:ext cx="371484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42560" y="571680"/>
            <a:ext cx="900108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енное внимание необходимо уделить возрастанию уровня жизненной компетентности, включающей в себя социальную, личностную и экологическую компетент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циальная компетентность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способность личности эффективно выстраивать свои отношения с окружающими, соответствовать требованиям, предъявляемым сред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ичностная компетентность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уверенная самооценка, наличие адекватных механизмов психологической защиты, поведенческие шаблоны, способствующие приспособлению, копинг-стратегии и другие личностные образов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кологическая компетентность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уважительное отношение к природе, выстраивание конструктивных отношений с окружением, критичность в восприятии информации из средств массовой коммуникац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ель программы 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ежде всего, содействие в формировании личностью системы адекватных и продуктивных представлений, своеобразной концепции жизни, обеспечивающей развитие и укрепление ее социальной, личностной и экологической компетент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веренная в себе личность, имеющая позитивное отношение к самой себе, своим знаниям, умеющая решать конфликты с помощью переговоров, правильно оценивающая свои чувства и потребности, способная противостоять негативному влиянию группы — приобретает способность сознательно выстраивать свое поведение на принятие и формирование здорового образа жиз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571680" y="428400"/>
            <a:ext cx="8229600" cy="109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ределение компонентов жизненной компетентности согласно потенциал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14200" y="1214280"/>
          <a:ext cx="8643960" cy="5291280"/>
        </p:xfrm>
        <a:graphic>
          <a:graphicData uri="http://schemas.openxmlformats.org/drawingml/2006/table">
            <a:tbl>
              <a:tblPr/>
              <a:tblGrid>
                <a:gridCol w="1765440"/>
                <a:gridCol w="6878520"/>
              </a:tblGrid>
              <a:tr h="244800">
                <a:tc>
                  <a:txBody>
                    <a:bodyPr lIns="23400" rIns="2340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енциал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marL="819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оненты жизненной компетен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0080"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енциал разу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итическое мышление; • умение анализировать результаты своей деятельности; • знания о здоровом образе жизни; • предупреждение опасност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1880"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енциал чувст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щение с чувствами и их выражение; • умение определять свои чувства; • умение распознавать эмоциональные состояния других людей на основе наблюдения за внешними проявлениями эмоци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енциал во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ятие ответственности; • умение делать выбор; • принятие решений; 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адекватная самооценка; • самоконтрол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480"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енциал те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ятие своего тела, развитие его; • умение управлять своим тело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19320"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ственный потенци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е выдерживать давление группы; • навык эффективного невербального общения; • умение преодолевать конфликты; • умение встречать других людей без предубеждений; • умение принимать людей с их достоинствами и недостатками; • умение разрабатывать взаимовыручку (сотрудничество, помощь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7280"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ативный потенци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ативность; • созидательность; •спонтанность;  • естественност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49240"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уховный потенци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е делать бескорыстное добро; • сопереживание другим; • осознание себя частичкой мира, уважение и бережное отношение к природе, ответственное обращение с другими людьми и окружающей средой в цело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981000"/>
            <a:ext cx="8540640" cy="14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1. ПОТЕНЦИАЛ РАЗУМА </a:t>
            </a: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(интеллектуальный аспект здоровья)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2565360"/>
            <a:ext cx="8229600" cy="34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особность человека развивать интеллект и уметь им пользоватьс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обретать объективные знания о формах проявления и последствиях девиантной актив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зависимостях к табакокурению, алкоголю, наркотикам и другим психоактивным вещества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Цель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еспечить подростка объективной информацией о девиантном поведении, его последств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формировать их собственное отношение этой проблеме, знания о действии на организм химических веществ, меняющих состояние сознания, о путях развития наркологических заболеваний во всех аспект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иск альтернативных проявлениюдевиантной активности (в том числе употреблению наркотических веществ) способов получения удовольствия, решения проблем и использования свободного време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2249640"/>
            <a:ext cx="8229600" cy="34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асть 1. Синквейн - Работа с переживаниями с помощью стих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щие замечания. Приоритетные ц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библиотерапии можно отне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только чтение чужих произведений, с выражением или без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 и сочинение своих поэм, саг, стихов, сказ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же чтение с определенной интонацией может изменить эмоциональное состояние человека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чинение в группе и декламация может способствовать еще более глубокой проработке внутренних пробл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териал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бумага формата 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4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чка, карандаш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утоагрессия — активность, нацеленная (осознанно или неосознанно) на причинение себе вреда в физической и психической сфер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42560" y="428760"/>
            <a:ext cx="9001080" cy="61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раб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нструкции для участников выделены курсиво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Настр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изация визуальных, аудиальных, кинестетических ощущ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ам предлагается занять удобное для себя по­ложение (встать, присесть, сесть на пол, если есть соответствующие условия, — по желанию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ойте глаза. Представьте цвет, звук, мело­дию, движения, с помощью которых можно было бы выразить собственное состояние «здесь и теперь»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Индивидуальная рабо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ерите значимое переживание из жизни, либо то, что вам мешает, либо ситуацию, в которой вы часто оказываете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чините стихотворение согласно следующим правил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фмы 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х состоит из 5 строк 11 с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строка – одно слово – название переживания (лучше существительно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строка – два слова – описание первого сл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строка – 3 слова – действие, которое возникло в результате этого пережи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строка – четыре слова – описание чувства, которое возникло в результате этих действ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строка – повтор первого сл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ьная, не нуж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жу, соплю, не говор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чувствую нелепость, бесполезность, туп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ьная, не нуж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жу, соплю, не говор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чувствую нелепость, бесполезность, туп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000080" y="571680"/>
            <a:ext cx="768672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биография в 5 главах (Порша Нельсон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Я иду по улице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ротуаре есть глубокая ям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адаю в нее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теряна... Я беспомощн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не моя вин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нужна вечность, чтобы выбраться оттуд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Я иду по той же улице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ротуаре есть глубокая ям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делаю вид, что не вижу ее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нова падаю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не могу поверить, что я в том же самом месте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это не моя вин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по-прежнему нужно много времени, чтобы выбраться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Я иду по той же улице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ротуаре есть глубокая ям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вижу, что она там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все равно падаю… это привычк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и глаза открыты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вижу, где я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моя вин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выбираюсь немедленно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Я иду по той же улице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ротуаре есть глубокая ям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обхожу ее вокруг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Я иду по другой улице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571320"/>
            <a:ext cx="8229600" cy="52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ндо - стихотворение о присущей вам черт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оявляется в жиз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го дости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го дости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язвим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ому что я женщин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легко сделать больно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язви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язвим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учит быть сильно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заставляет побежда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ому что я уязвима и я - женщина (искл. из прави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692280"/>
            <a:ext cx="854064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2. ПОТЕНЦИАЛ ВОЛИ 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(личностный аспект здоровья)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270792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особность человека к самореализации; умение ставить цели и достигать их, выбирая адекватные сре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Цель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буждение подростка к изучению своеобразия собственной личности, сильных и слабых сторон, Я-концепции (самооценки), стратегий достижения успеха; к пониманию своих ролей и возможных способов реализации себя через эти роли; к заботе о себ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ование развитой концепции самосознания у подростка, собственной системы ценностей, установок, способности делать самостоятельный выбор, контролировать свое поведение и жизнь, решать простые и сложные жизненные проблемы, умения оценивать ту или иную ситуацию и свои возможности контролировать е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21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-360" y="571320"/>
            <a:ext cx="63579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овогодний SM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ещания важно правильно формулировать. Как именно? — Так, чтобы они были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онкретными, измеримыми, достижимыми, реалистичными и основанными на времен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Многим наверняка знакома аббревиатура SMART — вот так это и называется. «Похудеть к лету» — скорее всего, не сработает. А вот пример удачного намерения: «заниматься 2 раза в неделю в спортзале, по 1,5 часа — по понедельникам и средам до работы»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Нужно ставить 1-2 цели, не больш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Чем больше целей, тем меньше вероятность их достижения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Не используйте прошлогодние недостигнутые цел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это приведет к накоплению чувства вины, стыда и раздражения на себя самого, увеличит самокритику. Все это не помогает идти по пути к запланированному. Лучше возьмите что-нибудь новое или подумайте о причинах, по которым вы не достигли желаемой цели за прошедший год. Может быть, все дело в том, что цель была недостижимой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Запишите все свои желания письменн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Добавьте конкретные этапы и шаги, которые требуются для выполнения данных себе обещаний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озьмитесь за реализацию </a:t>
            </a: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немедленно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не завтра, не 1 января, а прямо сейчас! Тогда, поднимая новогодний бокал, вы совершенно точно будете знать, чего именно хотите достичь в новом году и как получите желаемое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фото написано: «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Если вы ждете знака, то вот он». Действуйте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Рисунок 3" descr="Скандинавский  by Louise de Mirand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46800" y="785880"/>
            <a:ext cx="2797200" cy="52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1253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3. ПОТЕНЦИАЛ ЧУВСТВ </a:t>
            </a: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(эмоциональный аспект здоровья)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808360"/>
            <a:ext cx="8229600" cy="30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особность человека конгруэнтно выражать свои чувства, понимать и безоценочно принимать чувства други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Цель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ование умения сопереживать окружающим и понимать их чувства, выработка навыков узнавания и дифференцирования собственных эмоций, повышение эмоционального интеллекта, «культивирование» чувств, что означает не сдерживание эмоциональных проявлений, а цивилизованное выражение и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3644640"/>
            <a:ext cx="914400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медицинском плане опасны эмоции отрицательного характера, такие, как гнев, тоска, страх, боязнь и др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менно на их основе формируются так называемые психосоматические заболев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рицательные эмоции обладают рядом нежелательных свойст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рицательные эмоции обладают длительным последствием, нередко продолжаясь в течение ряда часов, даже после прекращения действия раздражающих фактор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рицательные эмоции при частых и повторных проявлениях способны переходить в форму стационарного, устойчивого возбуждения мозга — в «застойную» форм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условиях стационарной отрицательной эмоции формируются мощные потоки нисходящих возбуждений, распространяющихся на внутренние органы, особенно на произвольно неуправляемые компоненты эмоций. Этим влияниям противостоят механизмы саморегуляции функциональных систем гомеостатического уровн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J:\психофизиология\i2.jpg"/>
          <p:cNvPicPr/>
          <p:nvPr/>
        </p:nvPicPr>
        <p:blipFill>
          <a:blip r:embed="rId1"/>
          <a:stretch/>
        </p:blipFill>
        <p:spPr>
          <a:xfrm>
            <a:off x="1403280" y="0"/>
            <a:ext cx="62359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280" y="764640"/>
            <a:ext cx="4471920" cy="22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пражнение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Выражаем эмоции»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Е. Погудин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C:\Users\Администратор\Pictures\3636460-700-144701363679235019977276501.jpg"/>
          <p:cNvPicPr/>
          <p:nvPr/>
        </p:nvPicPr>
        <p:blipFill>
          <a:blip r:embed="rId1"/>
          <a:stretch/>
        </p:blipFill>
        <p:spPr>
          <a:xfrm>
            <a:off x="5219640" y="-30240"/>
            <a:ext cx="3924360" cy="4365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C:\Users\Администратор\Pictures\2660810-R3L8T8D-850-lioncub.jpg"/>
          <p:cNvPicPr/>
          <p:nvPr/>
        </p:nvPicPr>
        <p:blipFill>
          <a:blip r:embed="rId2"/>
          <a:stretch/>
        </p:blipFill>
        <p:spPr>
          <a:xfrm>
            <a:off x="0" y="3421080"/>
            <a:ext cx="529272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0" y="3314880"/>
            <a:ext cx="9144000" cy="35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 Анализ способов выражения эмоц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этого заполнить следующую табличку. В ней отражены четыре базовые эмоции (конечно, спектр наших эмоциональных проявлений намного разнообразнее; считается, что мы рождаемся со способностью выражать эти четыре базовые эмоции), а также способы, с помощью которых мы выражаем эти эмоц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пример, если ты часто злишься – каким образом ты эту эмоцию выражаешь? Кричишь и швыряешь все вокруг? Тогда это и отражается в таблице, и это будет поведенческий способ выражения эмоц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сли же ты считаешь, что не злишься никогда (что, скорее всего, неправда), но зато тебя мучают мигрени и бессонница – то, вероятнее всего, ты можешь выражать свою злость только телесным способо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вот если ты понимаешь, что злишься, и идешь бить подушку, то это будет символический способ выражения гнев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сли ты при этом приговариваешь, «как же ты меня разозлил!», то ты подключаешь и вербальный способ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о же самое нужно проделать со всеми остальными эмоциями – печалью, радостью, страх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1828800" y="-28440"/>
            <a:ext cx="552456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новные виды аутодеструктивного поведения в подростковом возрасте (Н.А. Польска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Объект 3" descr=""/>
          <p:cNvPicPr/>
          <p:nvPr/>
        </p:nvPicPr>
        <p:blipFill>
          <a:blip r:embed="rId1"/>
          <a:stretch/>
        </p:blipFill>
        <p:spPr>
          <a:xfrm>
            <a:off x="539640" y="1008000"/>
            <a:ext cx="7993080" cy="57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0" y="404280"/>
            <a:ext cx="914400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ие чувства будут проявлять себя в полную силу, если каналы для выражения других «перекрыты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пример, в семье был силен запрет на гнев и страх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моция страха может маскироваться под эмоцию печали, а эмоция гнева – под эмоцию рад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огда это будет выглядеть следующим образом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-23760" y="1442880"/>
            <a:ext cx="5838840" cy="41990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"/>
          <p:cNvPicPr/>
          <p:nvPr/>
        </p:nvPicPr>
        <p:blipFill>
          <a:blip r:embed="rId2"/>
          <a:stretch/>
        </p:blipFill>
        <p:spPr>
          <a:xfrm>
            <a:off x="3619440" y="4430880"/>
            <a:ext cx="5524560" cy="24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28760" y="642960"/>
            <a:ext cx="8291520" cy="55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анализировать, какие эмоции тебе в детстве запрещались, какие – разрешалис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эмоции ты сейчас разрешаешь себе, а какие – запрещаешь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падают ли таблицы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огда бывает так, что очень тихая девочка, которой запрещали гневаться, во взрослом возрасте начинает испытывать как будто бесконтрольный гнев – и тогда нужно посмотреть, а какую эмоцию она запрещает испытывать себе сейчас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редко это бывает печаль или рад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ознание того, какие эмоции нужно себе разрешить испытывать сейчас и каким способом (телесный, поведенческий, символический, вербальный) это можно сдела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ализ таблиц эмоций у партнеров по браку/общению – нередко бывает так, что они оказываются «зеркальными» – то, что разрешено у партнера, запрещено у нас, и наобор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4. ПОТЕНЦИАЛ ТЕЛА 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(физический аспект здоровья)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95280" y="2637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особность развивать физическую составляющую здоровья, осознавать собственную телесность как свойство лич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Цель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знание своего тела, изучение языка тела — «системы раннего оповещения», собственной «телесной географии» эмоциональных проявлений, умение контролировать и устранять мышечные зажимы, быть устойчивым, гибким, спонтанным; обучение методам психосоматической саморегуляции как конструктивной форме снятия последствий стресса; получение удовольствия во взаимодействии с телом через спорт, секс, танц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нтр тяжести своего т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МР – нервно-мышечная релакс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отдохнуть за 5 мин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6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5. ОБЩЕСТВЕННЫЙ ПОТЕНЦИАЛ 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(социальный аспект здоровья)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2708280"/>
            <a:ext cx="822960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обность человека оптимально адаптироваться к социальным условиям, стремление постоянно повышать уровень коммуникативной компетентности, обретение чувства принадлежности ко всему человечеств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мочь в социальной адаптации подростка. Научить устанавливать контакты с другими, развивать партнерские отношения, строить эффективное, взаимообогащающее общение; принимать и оказывать психологическую и социальную поддержку окружающим, быть способным обратиться при необходимости за помощью к други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99680" y="928800"/>
            <a:ext cx="8186760" cy="49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«Охота за мусором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анализируйте приведенный далее список. У вас есть 10 минут для подготовки и 30 минут, чтобы найти перечисленные ниже предметы и принести их в аудитори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Условия раб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ша команда всегда должна быть вместе, т.е. вы не можете разделиться и искать предметы параллельно. Если один из членов вашей команды заходит куда-либо, чтобы добыть предмет, остальные члены команды должны либо зайти вместе, либо ждать около входа. В ходе работы в группе присутствует наблюдател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полненным считается задание, если оно сделано точно в срок. За каждую минуту опоздания штраф — не засчитывается один принесенный предмет из списка. Таким образом не засчитывается столько предметов, на сколько минут опоздала команда. Сверьте часы с часами преподавателя до начала рабо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2604960"/>
            <a:ext cx="822960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ngolian Baiti"/>
              </a:rPr>
              <a:t>Неспособность к разрешению межличностных и межгрупповых конфликтов </a:t>
            </a:r>
            <a:r>
              <a:rPr b="0" lang="ru-RU" sz="2400" spc="-1" strike="noStrike">
                <a:solidFill>
                  <a:srgbClr val="000000"/>
                </a:solidFill>
                <a:latin typeface="Mongolian Baiti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Mongolian Baiti"/>
              </a:rPr>
              <a:t>может послужить провоцирующим фактором к употреблению наркотиков. Часто практикуемая стратегия состоит в том, чтобы путем потребления наркотических средств уйти в сторону от решения проблем и конфликтов. Умение поговорить друг с другом, возможность доверить кому-то свои проблемы, выслушать другого и знать, где и у кого можно получить помощь, — важнейшие элементы профилактики зависимости</a:t>
            </a:r>
            <a:r>
              <a:rPr b="0" lang="ru-RU" sz="2400" spc="-1" strike="noStrike">
                <a:solidFill>
                  <a:srgbClr val="000000"/>
                </a:solidFill>
                <a:latin typeface="Mongolian Bait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6. КРЕАТИВНЫЙ ПОТЕНЦИАЛ </a:t>
            </a: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(творческий аспект здоровья)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3079440"/>
            <a:ext cx="8229600" cy="278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особность человека к созидающей активности, стремление творчески само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ражаться в жизнедеятель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Цель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ь способность нестандартно мыслить и решать любые жизненные задачи посредством развитого доверия к творческой части своей личности и предоставления ей полной свободы в этой деятельности; научить генерировать оригинальные идеи, «опрокидывать границы» стереотипов, придавать завершенный вид продуктам своего мышл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57120" y="428400"/>
            <a:ext cx="5724720" cy="74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алог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или общий рисуно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C:\Users\Администратор\Desktop\психология цвета\оранжевый\4f914e4b2b633.jpg"/>
          <p:cNvPicPr/>
          <p:nvPr/>
        </p:nvPicPr>
        <p:blipFill>
          <a:blip r:embed="rId1"/>
          <a:stretch/>
        </p:blipFill>
        <p:spPr>
          <a:xfrm>
            <a:off x="6286680" y="0"/>
            <a:ext cx="2857320" cy="1758960"/>
          </a:xfrm>
          <a:prstGeom prst="rect">
            <a:avLst/>
          </a:prstGeom>
          <a:ln w="0">
            <a:noFill/>
          </a:ln>
        </p:spPr>
      </p:pic>
      <p:sp>
        <p:nvSpPr>
          <p:cNvPr id="178" name="Прямоугольник 3"/>
          <p:cNvSpPr/>
          <p:nvPr/>
        </p:nvSpPr>
        <p:spPr>
          <a:xfrm>
            <a:off x="0" y="1571760"/>
            <a:ext cx="9144000" cy="54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щие замечания. Приоритетные ц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ика «Диалог» может использоваться на протяжении всей терапевтической работы для осуществления обратной связи, при отработке конфликтной ситуации. Возможно использование данной методики в семейной психотерапии при разрешении конфликтов между родителями, родителями и ребенком, а также для разрешения внутриличностных конфликтов (диалог разных частей личност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атериа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а пастельных мелка различного цвета. Техническое средство для вос­произведения музыки. Записи музыкальных композиц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тапы раб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Инструкции для участников выделены курсиво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 Настр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ерите себе пару, желательно, чтобы это был человек, с которым вы хуже всего находите общий язы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ерите мелок, которым будет работ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 Работа по пар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ните диалог друг с другом посредством рис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йте  в любом месте листа, в каком хоти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язательное условие – говорить нельз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Этап верб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ники занимают стулья, развешивают на стены рисунки так, чтобы всем было удобно рассмотреть детали. В группе происходит обсуждение следующих вопросов по каждому рисунку или на выбор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л ли диалог? О чем они «говорили»? Кто был лидером, кто ведомым ? Было ли оказано сопротивление одной из сторон ? Кто первым начал, как это происходило – робко, тревожно или агрессивно ? Как вы думаете,  какие они люд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вы думаете, кто каким цветом рисовал ? Вам было приятно рисовать? Сейчас вам приятно видеть то, что получилос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 Заключитель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ники делятся впечатлениями о совместной работе, отличалось ли их настроение, когда они рисовали первый и второй раз, изменилось ли их отношение к участнику «диалог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57200" y="571320"/>
            <a:ext cx="8229600" cy="60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етод «Шесть шляп мышления» Э. де Бон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«Шесть шляп мышления» – это методика, предлагающая выполнять по одному мыслительному действию за раз, и, тем самым, разграничивать мыслительные операции, выполняя в определенный отрезок времени только одну мыслительную операцию. Не пытаясь сделать всё сразу, человек образно надевает по одной шляпе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сего имеется шесть разноцветных шляп, каждая из которых символизирует определенный тип мышления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белая шляпа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» отвечает за сбор только объективных фактов, объективной информации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красная шляпа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» – за проявление эмоций и чувств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желтая шляпа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» – за поиск позитивных сторон, преимуществ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черная шляпа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» – за поиск отрицательных сторон, недостатков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зеленая шляпа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» – за творческий поиск, генерирование новых идей, альтернативных подходов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синяя шляпа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» – за анализ всего мыслительного процесса (рефлексия мышления) и выводы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ипы аутодеструктивного поведения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А.В.Ипато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амоутверждающийс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низкая способность к саморегуляции поступков, неумение просчитывать последствия своих действий. Отличительная особенность – совершение мелких правонарушений, предпочтение рискованных занятий (озорство с риском для жизни)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утодестукция как способ самоутверждения. Помощь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знакомство с конструктивными способами самоутверж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щищающийся (напряженный)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выражена потребность в одобрении и поддержке, переживание психотравмирующих отношений с родителями и сниженная склонность к зависимостям разного рода. Характерны уходы из дома, прогулы уроков, бессодержательное время препровождение в компании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утодеструкция как способ обрести психологическую безопасность, снять внутренне напряжение. Помощь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овладение приемами совладания с тревогой, навыками уверенного повед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дражательны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- легко поддаются влиянию, склонны к зависимостям, но редко бывают асоциальны. У них более выражены конформность, общительность, навязчивость по сравнению с другими типами. Для них характерно преувеличение своей ранимости, что служит самоооправданием деструктивным поступкам, совершаемым в угоду «авторитетам». Часто встречаются употребление алкоголя, курение, случаи попрошайничества, прогулы школьных занятий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мощ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развитие критичности, самостоятельности мыш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монстративны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истероидная манера поведения, склонность к зависимостям и низкой социальной отгороженности. Выраженный уровень саморазрушения, беспечность (курение, употребление алкоголя, наркотиков)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утодеструкция как способ самовыражения, поиск внимания со стороны значимых людей. Помощь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выстраивание просоциальной деятельности для самовыраж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тестный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социальная отгороженность, податливость влиянию, невыраженная склонность к нарушению порядка. Свойственны бродяжничесво, употреблениея алкоголя, попытки самоповреждений, бессодержательное времяпрепровождение с элементами азартных игр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утодеструкция как способ самовыражения или «мщения» за реальные и мнимые обиды. Помощь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овладение приемами неконфликтного толерантного общения с окружающи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5280" y="11253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7.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ДУХОВНЫЙ ПОТЕНЦИАЛ </a:t>
            </a: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(духовный аспект здоровья)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342864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особность развивать духовную природу человека, выражать высшие ценности в жизн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Цель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омощью создания атмосферы принятия каждого, метода священного безмолвия открыть доступ к состояниям любви, веры, надежды. Дать опыт проживания высших состояний любви к себе, ближнему и к миру в цел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ормирование созидательной жизненной программы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зненные цен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определения,  данные Всемирным духовным университетом Брахма Кумари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4000" y="11253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Профилактика девиантного поведения в проекте «Перешеек» -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это, прежде всего: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2943360"/>
            <a:ext cx="8229600" cy="29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Script MT Bold"/>
              </a:rPr>
              <a:t>1) выработка личной компетентности (доверять себе, верить себе, понимать себя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Script MT Bold"/>
              </a:rPr>
              <a:t>2) стимулирование и поддержка обращения к своим обычным и высшим чувствам и желания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Script MT Bold"/>
              </a:rPr>
              <a:t>3) выработка социальной компетенци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Script MT Bold"/>
              </a:rPr>
              <a:t>4) активное участие в создании своего жизненного простран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Script MT Bold"/>
              </a:rPr>
              <a:t>5) способность противостоять различного рода внешним стрессовым ситуаци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Действенная профилактическая  и коррекционная работа должна обеспечить следующее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ать подростку объективную информацию о последствиях проявления девиантной активности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ыработать устойчивую психологическую защиту от патологических искушений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ыработать навыки решения сложных задач собственного развития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ыработать определенные поведенческие навыки, облегчающие следование по пути здорового стиля жизни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зависимости о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фференциации объекта воздейств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ыделяю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универсальные» программы (направленные на всю группу населения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выборочные» (направленные на определенную часть населени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раммы «по показаниям» (составленные для тех, кто уже относится к различным группам риска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угими специалистами выделяются программы, направлен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школ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местную общественнос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семь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зависимости от стратегии и тактики осуществления профилактической деятельност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еляю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информационный подход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модель аффективного обучения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модель влияния социальных факторов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модель формирования жизненных навыков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модель альтернативной асоциальному поведению деятельности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модель укрепления здоровья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57120" y="428760"/>
            <a:ext cx="80647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филактика отклоняющегося повед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2560" y="1213920"/>
            <a:ext cx="90010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80808"/>
                </a:solidFill>
                <a:latin typeface="Arial"/>
              </a:rPr>
              <a:t>Организация социальной среды</a:t>
            </a:r>
            <a:r>
              <a:rPr b="0" lang="ru-RU" sz="1600" spc="-1" strike="noStrike">
                <a:solidFill>
                  <a:srgbClr val="080808"/>
                </a:solidFill>
                <a:latin typeface="Arial"/>
              </a:rPr>
              <a:t> (создание негативного общественного мнения по отношению к отклоняющемуся поведению, социальная реклама по формированию установок на здоровый образ жизни и трезвость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;</a:t>
            </a:r>
            <a:r>
              <a:rPr b="0" lang="ru-RU" sz="1600" spc="-1" strike="noStrike">
                <a:solidFill>
                  <a:srgbClr val="080808"/>
                </a:solidFill>
                <a:latin typeface="Arial"/>
              </a:rPr>
              <a:t> работа с молодежной субкультурой может быть организована форме движения «Молодежь против наркотиков» или одноименной акции с выступлением популярных рок-групп и пр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80808"/>
                </a:solidFill>
                <a:latin typeface="Arial"/>
              </a:rPr>
              <a:t>Информирование </a:t>
            </a:r>
            <a:r>
              <a:rPr b="0" lang="ru-RU" sz="1600" spc="-1" strike="noStrike">
                <a:solidFill>
                  <a:srgbClr val="080808"/>
                </a:solidFill>
                <a:latin typeface="Arial"/>
              </a:rPr>
              <a:t>-  направление психопрофилактической работы в форме лекций, бесед, распространения специальной литературы или видео- и телефильм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80808"/>
                </a:solidFill>
                <a:latin typeface="Arial"/>
              </a:rPr>
              <a:t>Активное социальное обучение социально-важным навыкам </a:t>
            </a:r>
            <a:r>
              <a:rPr b="0" lang="ru-RU" sz="1600" spc="-1" strike="noStrike">
                <a:solidFill>
                  <a:srgbClr val="080808"/>
                </a:solidFill>
                <a:latin typeface="Arial"/>
              </a:rPr>
              <a:t>- преимущественно реализуется в форме групповых тренингов (Тренинг резистентности (устойчивости) к негативному социальному влиянию, Тренинг ассертивности или аффективно-ценностного обучения, Тренинг формирования жизненных навык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80808"/>
                </a:solidFill>
                <a:latin typeface="Arial"/>
              </a:rPr>
              <a:t>Организация деятельности, альтернативной девиантному поведению</a:t>
            </a:r>
            <a:r>
              <a:rPr b="0" lang="ru-RU" sz="1600" spc="-1" strike="noStrike">
                <a:solidFill>
                  <a:srgbClr val="080808"/>
                </a:solidFill>
                <a:latin typeface="Arial"/>
              </a:rPr>
              <a:t> -  альтернативными формами активности признаны: познание (путешествия), испытание себя (походы в горы, спорт с риском), значимое общение, любовь, творчество, деятельность (в том числе профессиональная, религиозно-духовная, благотворительная)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80808"/>
                </a:solidFill>
                <a:latin typeface="Arial"/>
              </a:rPr>
              <a:t>Организация здорового образа жизни</a:t>
            </a:r>
            <a:r>
              <a:rPr b="0" lang="ru-RU" sz="1600" spc="-1" strike="noStrike">
                <a:solidFill>
                  <a:srgbClr val="080808"/>
                </a:solidFill>
                <a:latin typeface="Arial"/>
              </a:rPr>
              <a:t> -  исходит из представлений о личной ответственности за здоровье, гармонию с окружающим миром и своим организм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80808"/>
                </a:solidFill>
                <a:latin typeface="Arial"/>
              </a:rPr>
              <a:t>Активизация личностных ресурсов</a:t>
            </a:r>
            <a:r>
              <a:rPr b="0" lang="ru-RU" sz="1600" spc="-1" strike="noStrike">
                <a:solidFill>
                  <a:srgbClr val="080808"/>
                </a:solidFill>
                <a:latin typeface="Arial"/>
              </a:rPr>
              <a:t> -  активные занятия подростков спортом, их творческое самовыражение, участие в группах общения и личностного роста, арттерап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80808"/>
                </a:solidFill>
                <a:latin typeface="Arial"/>
              </a:rPr>
              <a:t>Минимизация негативных последствий девиантного поведения</a:t>
            </a:r>
            <a:r>
              <a:rPr b="0" lang="ru-RU" sz="1600" spc="-1" strike="noStrike">
                <a:solidFill>
                  <a:srgbClr val="080808"/>
                </a:solidFill>
                <a:latin typeface="Arial"/>
              </a:rPr>
              <a:t> -  используется в случаях уже сформированного отклоняющегося поведения. Она направлена на профилактику рецидивов или их негативных последств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28440" y="642960"/>
            <a:ext cx="715788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Конкретные задачи профилактики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о программе «Перешеек» осуществляются посредством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85840" y="2285640"/>
            <a:ext cx="850104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повышения квалификации/обучения специалистов (школьных 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клинических психологов, социальных педагогов, валеологов, учителей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занятий по темам/семинаров-тренинг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работы с родителя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просветительской работы со средствами массовой информ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консультаций и коррекции в преддверии зависим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использования развлекательных молодежных мероприятий (проведение тематических дискотек, спектакле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08:21:39Z</dcterms:created>
  <dc:creator>1</dc:creator>
  <dc:description/>
  <dc:language>en-US</dc:language>
  <cp:lastModifiedBy>Евгения</cp:lastModifiedBy>
  <cp:lastPrinted>2011-12-17T17:50:48Z</cp:lastPrinted>
  <dcterms:modified xsi:type="dcterms:W3CDTF">2023-04-17T05:41:12Z</dcterms:modified>
  <cp:revision>39</cp:revision>
  <dc:subject/>
  <dc:title>Цель профилактической работ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