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939-DCAD-4C6F-A7E2-54022D71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CAD-5EB7-440F-871C-656C711E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02B-90D4-4190-A8E9-8679C6A0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8C4-7CD8-4963-AF6A-2F2BED4C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6E4-A96F-4B42-9FF5-FB6AB12C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D2B-AFBD-4E10-9645-F67F9CEA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EE3-8605-4E9F-B33F-6C531E80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AE98-C8A6-473C-855C-481BB659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E15-BCFF-4D21-B8DD-FE6D212C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9E8-1473-4304-81F7-181A5A0B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7A8-3BC4-4954-BB0B-E949C765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05B-6F14-4C4B-8FEA-27A21B8F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0297-8FBA-4C62-BADC-49470AD91B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одоление коммуникативных трудностей на этапе адаптации  у учащихся 1 класса  посредством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овых прием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000" y="4652640"/>
            <a:ext cx="52880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 ГБПОУ КК ЕП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елева Л.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Й АНАЛИЗ РЕЗУЛЬТАТОВ ИТОГОВОЙ ДИАГНОС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801720"/>
                <a:gridCol w="2952720"/>
                <a:gridCol w="1182600"/>
                <a:gridCol w="1646280"/>
                <a:gridCol w="164628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пе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иориз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ые коммуникативные навыки по итогам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ют позицию собеседни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ют своё мнени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уют и задают вопросы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ят понятные высказывани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ют работать в па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ВОПРО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15" descr=""/>
          <p:cNvPicPr/>
          <p:nvPr/>
        </p:nvPicPr>
        <p:blipFill>
          <a:blip r:embed="rId1"/>
          <a:stretch/>
        </p:blipFill>
        <p:spPr>
          <a:xfrm>
            <a:off x="407880" y="1603440"/>
            <a:ext cx="829152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Й АНАЛИЗ РЕЗУЛЬТАТОВ СТАРТОВОЙ ДИАГНОС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2773440"/>
        </p:xfrm>
        <a:graphic>
          <a:graphicData uri="http://schemas.openxmlformats.org/drawingml/2006/table">
            <a:tbl>
              <a:tblPr/>
              <a:tblGrid>
                <a:gridCol w="730080"/>
                <a:gridCol w="2953080"/>
                <a:gridCol w="1584000"/>
                <a:gridCol w="1511640"/>
                <a:gridCol w="1450800"/>
              </a:tblGrid>
              <a:tr h="3052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пе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иориз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ТРУ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договоритьс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слушать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высказать свою позицию или учесть  позицию другого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задавать вопро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И РЕ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pic>
        <p:nvPicPr>
          <p:cNvPr id="51" name="Схема 4" descr=""/>
          <p:cNvPicPr/>
          <p:nvPr/>
        </p:nvPicPr>
        <p:blipFill>
          <a:blip r:embed="rId2"/>
          <a:stretch/>
        </p:blipFill>
        <p:spPr>
          <a:xfrm>
            <a:off x="828720" y="1390680"/>
            <a:ext cx="7705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ВЗАИМОДЕЙСТВ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втор: Жукова 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6" descr=""/>
          <p:cNvPicPr/>
          <p:nvPr/>
        </p:nvPicPr>
        <p:blipFill>
          <a:blip r:embed="rId1"/>
          <a:srcRect l="20432" t="1826" r="6123" b="3331"/>
          <a:stretch/>
        </p:blipFill>
        <p:spPr>
          <a:xfrm>
            <a:off x="928800" y="2170080"/>
            <a:ext cx="2706480" cy="4354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417320"/>
            <a:ext cx="404172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ры: Мухаматулина Е.А., Михеева И. 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9" descr=""/>
          <p:cNvPicPr/>
          <p:nvPr/>
        </p:nvPicPr>
        <p:blipFill>
          <a:blip r:embed="rId2"/>
          <a:stretch/>
        </p:blipFill>
        <p:spPr>
          <a:xfrm>
            <a:off x="5135400" y="2292480"/>
            <a:ext cx="29624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ВЗАИМОДЕЙ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втор: Боева 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6" descr=""/>
          <p:cNvPicPr/>
          <p:nvPr/>
        </p:nvPicPr>
        <p:blipFill>
          <a:blip r:embed="rId1"/>
          <a:stretch/>
        </p:blipFill>
        <p:spPr>
          <a:xfrm>
            <a:off x="507960" y="2174760"/>
            <a:ext cx="3938760" cy="3951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7" descr=""/>
          <p:cNvPicPr/>
          <p:nvPr/>
        </p:nvPicPr>
        <p:blipFill>
          <a:blip r:embed="rId2"/>
          <a:stretch/>
        </p:blipFill>
        <p:spPr>
          <a:xfrm>
            <a:off x="4932360" y="2154240"/>
            <a:ext cx="3168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РАЗВИТИЯ КООП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Три рисун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7" descr=""/>
          <p:cNvPicPr/>
          <p:nvPr/>
        </p:nvPicPr>
        <p:blipFill>
          <a:blip r:embed="rId1"/>
          <a:srcRect l="3816" t="-741" r="8851" b="-625"/>
          <a:stretch/>
        </p:blipFill>
        <p:spPr>
          <a:xfrm>
            <a:off x="414360" y="2292480"/>
            <a:ext cx="4827600" cy="3152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Пицц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6" descr=""/>
          <p:cNvPicPr/>
          <p:nvPr/>
        </p:nvPicPr>
        <p:blipFill>
          <a:blip r:embed="rId2"/>
          <a:srcRect l="1142" t="6229" r="0" b="0"/>
          <a:stretch/>
        </p:blipFill>
        <p:spPr>
          <a:xfrm>
            <a:off x="5535720" y="2178000"/>
            <a:ext cx="24922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РАЗВИТ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ИОРИЗ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Кто я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6" descr=""/>
          <p:cNvPicPr/>
          <p:nvPr/>
        </p:nvPicPr>
        <p:blipFill>
          <a:blip r:embed="rId1"/>
          <a:srcRect l="21819" t="4600" r="23151" b="4647"/>
          <a:stretch/>
        </p:blipFill>
        <p:spPr>
          <a:xfrm>
            <a:off x="1187280" y="2174760"/>
            <a:ext cx="2376720" cy="3918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Что в сундучке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7" descr=""/>
          <p:cNvPicPr/>
          <p:nvPr/>
        </p:nvPicPr>
        <p:blipFill>
          <a:blip r:embed="rId2"/>
          <a:srcRect l="4298" t="2580" r="13694" b="0"/>
          <a:stretch/>
        </p:blipFill>
        <p:spPr>
          <a:xfrm>
            <a:off x="4859280" y="2276640"/>
            <a:ext cx="32418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7:09:31Z</dcterms:created>
  <dc:creator>Шевелева Л.В.</dc:creator>
  <dc:description/>
  <dc:language>en-US</dc:language>
  <cp:lastModifiedBy>Женя</cp:lastModifiedBy>
  <dcterms:modified xsi:type="dcterms:W3CDTF">2021-10-12T20:31:45Z</dcterms:modified>
  <cp:revision>39</cp:revision>
  <dc:subject/>
  <dc:title>Презентация PowerPoint</dc:title>
</cp:coreProperties>
</file>