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8969-445C-47AB-932D-2E03C4E2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3B3-409B-4623-A5E5-19580C0F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AA22-A069-4017-8F0F-A51553D4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5350-A4F4-464D-8F57-EFD33643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AFD5-F7DD-43E8-9307-FC4EF3DE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DAEA-508F-47CB-82CB-341FAA46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1014-F97D-4C2C-973C-9AC8D9F6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070A-9D0C-446E-B80B-B55A5457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D373-27FB-4BC8-9EE6-813A84E9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BD00-0887-4774-81EC-E4FA82B3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2AF0-11E9-4255-9D2D-C2400370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E581-66E3-4981-85C5-85E36D42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10AA-68BF-480A-91A5-7635C701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EF75-6074-407F-A3F4-0972EC41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925D-E6AF-4E06-A103-8DE12200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ADDF-BE69-429F-9468-E48CC503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D375-F316-4EF3-82F3-AA5F7CA8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DAD5-83C1-4634-9A3E-B600A4CC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C1A4-8581-43A6-884B-47E518B1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3BCA-AB94-4156-8DE3-FBFBD478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DE2-261F-40E4-9FEF-C61D7CEB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71A2-0E3E-4271-B034-F9DB18F6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BC9-0D9D-4EA6-B4A7-66F0C25F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D685-AED4-4626-B22C-643B9474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A156-3F93-4008-9998-8F0A91151C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32E0-12F9-4D3B-B85B-AD438DB85E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4568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Психологические проблемы  современных детей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41600" y="39243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j0299125"/>
          <p:cNvPicPr/>
          <p:nvPr/>
        </p:nvPicPr>
        <p:blipFill>
          <a:blip r:embed="rId1"/>
          <a:stretch/>
        </p:blipFill>
        <p:spPr>
          <a:xfrm>
            <a:off x="533520" y="48006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4267080" y="5737320"/>
            <a:ext cx="446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1752480" y="3124080"/>
            <a:ext cx="66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«Сегодня дети, а завтра – народ»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(С. Михалков)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Возрастная психология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сихика – системное образ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ждый возрастной период подготавливает следующий: если какой-то возраст прожит ребенком неблагополучно, то  следующий возраст будет менее продуктивны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ждый возрастной период детерминируется (определяется)  ведущим типом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ждый возрастной период сензитивен для формирования определенных навыков и качеств личности ребен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Эмоциональные и поведенческие проблемы современных детей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69800" y="1827360"/>
            <a:ext cx="73134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75% детей выявляются те или иные эмоциональные трудности и нарушени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повышенная тревожность, страхи, гиперактивность, психосоматик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повышенная агрессивность (раздражительность, гнев, драчливость, обидчивость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эмоциональная неустойчивость (капризы, истерики, срывы, депрессии у подростков и т.д.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все зависимости ( смс, планшет, интернет-зависимости;  пищевая, употребление ПА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амоповреждения, суицидальный риск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ы в межличностном общении (замкнутость, постоянная конкуренция или соперничество со сверстниками, чувство собственной малозначимости и т.д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Нарушение привязанности – ведущая причина последующих проблем у детей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вязанность – это потребность ребенка в заботе взрослого.  Эта потребность жизненно важная, витальна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ти с ненадежной привязанностью не доверяют людям. Во взрослом возрасте  хотят близости, но боятся ее, т.к. всегда  боятся отвержения. Из-за негативного детского опыта плохо воспринимают себя, тревожны, неуверенны. В сценарии отношений таких людей всегда на первом месте будет идея о том, что отношения им в принципе не нужны. Они редко по-настоящему сближаются с людь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Людмила Петрановская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Главные тезисы из концепции привязанност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69800" y="1827000"/>
            <a:ext cx="73134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ребенок не уверен в своем родителе, в его привязанности, он не будет чувствовать себя нужным, при этом  будет добиваться подтверждений связи, стремиться ее сохранить и укрепить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любой це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родитель кричит на ребенка, ребенок не перестает любить своего родителя. Он перестает любить себя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здайте запас прочности для детской псих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азалось бы, начинай с молодых ногтей 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дбрасывать ребенку неурядицы и проблем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и его характер закалится, а воля станет железной. Но не тут-то было, с психологической точки зрения, ребенок вырастет более стрессоустойчивым и гибким в вопросе преодоления трудностей при условии, что у него будет любящая и благополучная семья, состоящая из адекватных родственников. Именно эти люди 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гут подарить малышу счастливое детств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а вместе с ним гибкость и изобретательность психики в стрессовой ситуации. Их нервная система более прочная, ребенок 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 помощью своих близких учится утешать себ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 Если же родители с самого рождения «включали школу жизни», то подобные малыши так и не научатся противостоять жизненным невзгодам, им никто не показал механизм преодоления неурядиц и стрессов. Родители такими мелочами, как развитие у малыша навыков справляться с проблемами, не заморачивались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Рекомендаци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69800" y="1827360"/>
            <a:ext cx="73134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1. Спокойствие – путь к взаимопониманию. Родителям нужно учиться общаться с детьми правильно: 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 «наезжать»: избегать вопросов «почему ты?», уметь  присоединяться к чувствам и переживаниям ребен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. Избегайте стресса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бенок 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е должен бояться своих родителей и мир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который его окружает. Длительный стресс губителен для детской любознательности и познавательной активности. Вряд ли ему захочется узнавать что-нибудь новое, если он постоянно испытывает страх или психологический дискомфорт.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моционально благополучные дети лучше учатся и развиваются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збегайте конфликтов в семье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они есть, во-первых, ребенок учится такому способу общения в семье, а, во-вторых, теряют уверенность в стабильности и прочности родительских отнош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важайте чувства своего ребенка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 он научится уважать Ваши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Содержимое 3" descr="https://avatars.mds.yandex.net/get-zen_doc/2816669/pub_5ec4cfc0379baa1075eb7ef3_5ec4cfe59b4e1c1c260bb0b2/scale_1200"/>
          <p:cNvPicPr/>
          <p:nvPr/>
        </p:nvPicPr>
        <p:blipFill>
          <a:blip r:embed="rId1"/>
          <a:stretch/>
        </p:blipFill>
        <p:spPr>
          <a:xfrm>
            <a:off x="1523880" y="152280"/>
            <a:ext cx="49532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езентацию подготовил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емина Ирина Борисовна, педагог-психолог Лицея №59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. Соч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Спасибо за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внимание!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2743200" y="5638680"/>
            <a:ext cx="446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21-11-25T13:29:36Z</dcterms:modified>
  <cp:revision>1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