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8CA-4140-4C26-A765-86CD66DE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577-39DA-4105-A155-847505F0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649-611C-4EFB-86F2-716C14AE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FCA-E01D-45BB-96DE-FA83900D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8A7-FBF9-4B5D-9875-E31B9C1A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74C-409F-4787-A68D-34E885AE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F4C-905C-4B1A-945D-17ABD8A0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AB2-E40D-4730-81B4-63E62E98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2FF-33C0-4FC3-982F-09B64418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DC6-4651-4987-9185-71C904B8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DDF-D841-4C19-BE99-455C5AAF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387-F9B8-4823-8648-9DBEDFA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ABEC-E4FB-44C3-B1CA-FE88636EAD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доление коммуникативных трудностей на этапе адаптации  у учащихся 1 класса  посредством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овых прие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4652640"/>
            <a:ext cx="52880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ГБПОУ КК ЕП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ева Л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ЕЗУЛЬТАТОВ ИТОГОВОЙ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801720"/>
                <a:gridCol w="2952720"/>
                <a:gridCol w="1182600"/>
                <a:gridCol w="1646280"/>
                <a:gridCol w="164628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иориз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ые коммуникативные навыки по итогам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ют позицию собеседни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ют своё мн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ют и задают вопросы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ят понятные высказыва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т работать в па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В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15" descr=""/>
          <p:cNvPicPr/>
          <p:nvPr/>
        </p:nvPicPr>
        <p:blipFill>
          <a:blip r:embed="rId1"/>
          <a:stretch/>
        </p:blipFill>
        <p:spPr>
          <a:xfrm>
            <a:off x="407880" y="1603440"/>
            <a:ext cx="82915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ЕЗУЛЬТАТОВ СТАРТОВОЙ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2773440"/>
        </p:xfrm>
        <a:graphic>
          <a:graphicData uri="http://schemas.openxmlformats.org/drawingml/2006/table">
            <a:tbl>
              <a:tblPr/>
              <a:tblGrid>
                <a:gridCol w="730080"/>
                <a:gridCol w="2953080"/>
                <a:gridCol w="1584000"/>
                <a:gridCol w="1511640"/>
                <a:gridCol w="1450800"/>
              </a:tblGrid>
              <a:tr h="305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иориз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ТРУ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договоритьс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слушат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высказать свою позицию или учесть  позицию другог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задавать 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4" descr=""/>
          <p:cNvPicPr/>
          <p:nvPr/>
        </p:nvPicPr>
        <p:blipFill>
          <a:blip r:embed="rId2"/>
          <a:stretch/>
        </p:blipFill>
        <p:spPr>
          <a:xfrm>
            <a:off x="828720" y="1390680"/>
            <a:ext cx="7705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ЗАИМОДЕЙСТВ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: Жукова 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6" descr=""/>
          <p:cNvPicPr/>
          <p:nvPr/>
        </p:nvPicPr>
        <p:blipFill>
          <a:blip r:embed="rId1"/>
          <a:srcRect l="20432" t="1826" r="6123" b="3331"/>
          <a:stretch/>
        </p:blipFill>
        <p:spPr>
          <a:xfrm>
            <a:off x="928800" y="2170080"/>
            <a:ext cx="2706480" cy="4354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417320"/>
            <a:ext cx="404172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ы: Мухаматулина Е.А., Михеева И. 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9" descr=""/>
          <p:cNvPicPr/>
          <p:nvPr/>
        </p:nvPicPr>
        <p:blipFill>
          <a:blip r:embed="rId2"/>
          <a:stretch/>
        </p:blipFill>
        <p:spPr>
          <a:xfrm>
            <a:off x="5135400" y="2292480"/>
            <a:ext cx="29624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: Боева 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6" descr=""/>
          <p:cNvPicPr/>
          <p:nvPr/>
        </p:nvPicPr>
        <p:blipFill>
          <a:blip r:embed="rId1"/>
          <a:stretch/>
        </p:blipFill>
        <p:spPr>
          <a:xfrm>
            <a:off x="507960" y="2174760"/>
            <a:ext cx="3938760" cy="3951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7" descr=""/>
          <p:cNvPicPr/>
          <p:nvPr/>
        </p:nvPicPr>
        <p:blipFill>
          <a:blip r:embed="rId2"/>
          <a:stretch/>
        </p:blipFill>
        <p:spPr>
          <a:xfrm>
            <a:off x="4932360" y="2154240"/>
            <a:ext cx="3168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КООП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Три рисун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7" descr=""/>
          <p:cNvPicPr/>
          <p:nvPr/>
        </p:nvPicPr>
        <p:blipFill>
          <a:blip r:embed="rId1"/>
          <a:srcRect l="3816" t="-741" r="8851" b="-625"/>
          <a:stretch/>
        </p:blipFill>
        <p:spPr>
          <a:xfrm>
            <a:off x="414360" y="2292480"/>
            <a:ext cx="4827600" cy="315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Пицц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6" descr=""/>
          <p:cNvPicPr/>
          <p:nvPr/>
        </p:nvPicPr>
        <p:blipFill>
          <a:blip r:embed="rId2"/>
          <a:srcRect l="1142" t="6229" r="0" b="0"/>
          <a:stretch/>
        </p:blipFill>
        <p:spPr>
          <a:xfrm>
            <a:off x="5535720" y="2178000"/>
            <a:ext cx="24922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ИОРИЗ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то я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6" descr=""/>
          <p:cNvPicPr/>
          <p:nvPr/>
        </p:nvPicPr>
        <p:blipFill>
          <a:blip r:embed="rId1"/>
          <a:srcRect l="21819" t="4600" r="23151" b="4647"/>
          <a:stretch/>
        </p:blipFill>
        <p:spPr>
          <a:xfrm>
            <a:off x="1187280" y="2174760"/>
            <a:ext cx="2376720" cy="3918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Что в сундучке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7" descr=""/>
          <p:cNvPicPr/>
          <p:nvPr/>
        </p:nvPicPr>
        <p:blipFill>
          <a:blip r:embed="rId2"/>
          <a:srcRect l="4298" t="2580" r="13694" b="0"/>
          <a:stretch/>
        </p:blipFill>
        <p:spPr>
          <a:xfrm>
            <a:off x="4859280" y="2276640"/>
            <a:ext cx="3241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Шевелева Л.В.</dc:creator>
  <dc:description/>
  <dc:language>en-US</dc:language>
  <cp:lastModifiedBy>Женя</cp:lastModifiedBy>
  <dcterms:modified xsi:type="dcterms:W3CDTF">2021-10-12T20:31:45Z</dcterms:modified>
  <cp:revision>39</cp:revision>
  <dc:subject/>
  <dc:title>Презентация PowerPoint</dc:title>
</cp:coreProperties>
</file>